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7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7.png" ContentType="image/png"/>
  <Override PartName="/ppt/media/image9.png" ContentType="image/png"/>
  <Override PartName="/ppt/media/image28.wmf" ContentType="image/x-wmf"/>
  <Override PartName="/ppt/media/image10.png" ContentType="image/png"/>
  <Override PartName="/ppt/media/image30.wmf" ContentType="image/x-wmf"/>
  <Override PartName="/ppt/media/image13.png" ContentType="image/png"/>
  <Override PartName="/ppt/media/image16.png" ContentType="image/png"/>
  <Override PartName="/ppt/media/image31.wmf" ContentType="image/x-wmf"/>
  <Override PartName="/ppt/media/image11.png" ContentType="image/png"/>
  <Override PartName="/ppt/media/image36.wmf" ContentType="image/x-wmf"/>
  <Override PartName="/ppt/media/image6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12.png" ContentType="image/png"/>
  <Override PartName="/ppt/media/image34.wmf" ContentType="image/x-wmf"/>
  <Override PartName="/ppt/media/image14.png" ContentType="image/png"/>
  <Override PartName="/ppt/media/image35.wmf" ContentType="image/x-wmf"/>
  <Override PartName="/ppt/media/image15.png" ContentType="image/png"/>
  <Override PartName="/ppt/media/image5.jpeg" ContentType="image/jpeg"/>
  <Override PartName="/ppt/media/image4.jpeg" ContentType="image/jpeg"/>
  <Override PartName="/ppt/media/image2.png" ContentType="image/png"/>
  <Override PartName="/ppt/media/image8.jpeg" ContentType="image/jpeg"/>
  <Override PartName="/ppt/media/image33.wmf" ContentType="image/x-wmf"/>
  <Override PartName="/ppt/media/image3.wmf" ContentType="image/x-wmf"/>
  <Override PartName="/ppt/media/image26.wmf" ContentType="image/x-wmf"/>
  <Override PartName="/ppt/media/image29.wmf" ContentType="image/x-wmf"/>
  <Override PartName="/ppt/media/image1.png" ContentType="image/png"/>
  <Override PartName="/ppt/media/image18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80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8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92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90520" y="-360"/>
            <a:ext cx="29926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090080" y="679320"/>
            <a:ext cx="4627800" cy="3470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0" y="8753040"/>
            <a:ext cx="299232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90520" y="8753040"/>
            <a:ext cx="2992680" cy="45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lstStyle>
            <a:lvl1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6DC4A75-8F59-4448-BED4-D530B49761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597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599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601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603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609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613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615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617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621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625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627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629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631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633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635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637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593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090440" y="679320"/>
            <a:ext cx="4627800" cy="34704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898200" y="4376520"/>
            <a:ext cx="5011560" cy="415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rganization, Activities, and Schedule - how the SCA 2.1 came ab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discuss what went into the S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Ps are still Open and being worked for SCA 3.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F616A-6BAF-4C05-A155-76C7F34695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77724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3777480"/>
            <a:ext cx="77724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0180-962A-493F-919B-C64652FCA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3792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117080"/>
            <a:ext cx="3792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3777480"/>
            <a:ext cx="3792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3777480"/>
            <a:ext cx="3792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E63F8-464E-431F-8F43-1710F8E418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250236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117080"/>
            <a:ext cx="250236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117080"/>
            <a:ext cx="250236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3777480"/>
            <a:ext cx="250236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3777480"/>
            <a:ext cx="250236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3777480"/>
            <a:ext cx="250236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1F738-8BDD-4F08-9760-D3B8B9EF2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93262-2F34-4DD8-B3A5-B41B03F88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B984A-9B83-47FF-8015-079CE2D73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77724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B5528-9D7C-46DA-8B2B-8C6EA54BB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3792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117080"/>
            <a:ext cx="3792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5D95B-257B-435E-A432-2DF60B4AA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8CD53-5BFC-411A-AF4D-35D8DCA46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07696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2E34C-F82A-4158-92D1-E0FD96C91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3792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117080"/>
            <a:ext cx="3792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3777480"/>
            <a:ext cx="3792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C6E0F1-FA15-4E3B-8ACE-FE172D402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509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39F66-202E-4C9A-AD0F-D6435DD2E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3792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117080"/>
            <a:ext cx="3792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3777480"/>
            <a:ext cx="3792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FD3F69-8FE3-4DFE-85CB-A2E35365D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3792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117080"/>
            <a:ext cx="3792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3777480"/>
            <a:ext cx="77724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9D195-18E1-48F0-B13A-CF63C198B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77724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3777480"/>
            <a:ext cx="77724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1019AA-8C85-4920-A71B-843F773A6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3792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117080"/>
            <a:ext cx="3792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777480"/>
            <a:ext cx="3792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3777480"/>
            <a:ext cx="3792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0CF6D-FC96-44EA-B423-6946E061B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250236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117080"/>
            <a:ext cx="250236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117080"/>
            <a:ext cx="250236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3777480"/>
            <a:ext cx="250236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3777480"/>
            <a:ext cx="250236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3777480"/>
            <a:ext cx="250236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66C7-8834-4592-9D0B-F7C8FFF786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77724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F155-71B7-4574-8FDD-3DAA2868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3792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117080"/>
            <a:ext cx="3792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FE0E-9DDA-4FC2-BF3A-B6969F479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AD842-4B9A-4F0E-8886-8E2E4B9C1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533520" y="0"/>
            <a:ext cx="807696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46DD-56F1-4B81-86BF-B0052F837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3792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117080"/>
            <a:ext cx="3792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3777480"/>
            <a:ext cx="3792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6DD56-7E9B-4D7A-B246-A46233FEE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37926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117080"/>
            <a:ext cx="3792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3777480"/>
            <a:ext cx="3792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76649-9896-4910-A168-CEDB782DE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117080"/>
            <a:ext cx="3792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117080"/>
            <a:ext cx="37926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3777480"/>
            <a:ext cx="7772400" cy="24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F1E5E-0E73-4997-85BB-E863D1A30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20 April 2002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806560" y="6286680"/>
            <a:ext cx="3502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br>
              <a:rPr sz="800"/>
            </a:br>
            <a:fld id="{CEE4A3BF-F7CB-4132-9723-CA9204E1CC01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487440" y="1054080"/>
            <a:ext cx="816768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117080"/>
            <a:ext cx="7772400" cy="509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5494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5494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549440" indent="-17784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0" y="0"/>
            <a:ext cx="144792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</a:t>
            </a:r>
            <a:endParaRPr b="0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7" name=""/>
          <p:cNvSpPr txBox="1"/>
          <p:nvPr/>
        </p:nvSpPr>
        <p:spPr>
          <a:xfrm>
            <a:off x="152280" y="558720"/>
            <a:ext cx="1143000" cy="50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</a:t>
            </a:r>
            <a:endParaRPr b="0" i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" name=""/>
          <p:cNvSpPr txBox="1"/>
          <p:nvPr/>
        </p:nvSpPr>
        <p:spPr>
          <a:xfrm>
            <a:off x="7543800" y="228600"/>
            <a:ext cx="1447920" cy="712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</a:t>
            </a:r>
            <a:endParaRPr b="0" i="1" lang="en-US" sz="24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24080" y="16761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fld id="{C68AD0F9-D5F7-4E87-ACD7-DD98AC87F01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Warning" descr=""/>
          <p:cNvPicPr/>
          <p:nvPr/>
        </p:nvPicPr>
        <p:blipFill>
          <a:blip r:embed="rId2"/>
          <a:srcRect l="0" t="77444" r="0" b="10681"/>
          <a:stretch/>
        </p:blipFill>
        <p:spPr>
          <a:xfrm>
            <a:off x="4680" y="5303880"/>
            <a:ext cx="9134640" cy="817560"/>
          </a:xfrm>
          <a:prstGeom prst="rect">
            <a:avLst/>
          </a:prstGeom>
          <a:ln w="0">
            <a:noFill/>
          </a:ln>
        </p:spPr>
      </p:pic>
      <p:pic>
        <p:nvPicPr>
          <p:cNvPr id="50" name="1" descr=""/>
          <p:cNvPicPr/>
          <p:nvPr/>
        </p:nvPicPr>
        <p:blipFill>
          <a:blip r:embed="rId3"/>
          <a:stretch/>
        </p:blipFill>
        <p:spPr>
          <a:xfrm>
            <a:off x="216000" y="0"/>
            <a:ext cx="2971800" cy="26654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3276720" y="1143000"/>
            <a:ext cx="5424480" cy="0"/>
          </a:xfrm>
          <a:prstGeom prst="line">
            <a:avLst/>
          </a:prstGeom>
          <a:ln w="57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28.wm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0.wmf"/><Relationship Id="rId7" Type="http://schemas.openxmlformats.org/officeDocument/2006/relationships/image" Target="../media/image30.wmf"/><Relationship Id="rId8" Type="http://schemas.openxmlformats.org/officeDocument/2006/relationships/image" Target="../media/image31.wmf"/><Relationship Id="rId9" Type="http://schemas.openxmlformats.org/officeDocument/2006/relationships/image" Target="../media/image30.wmf"/><Relationship Id="rId10" Type="http://schemas.openxmlformats.org/officeDocument/2006/relationships/image" Target="../media/image30.wmf"/><Relationship Id="rId11" Type="http://schemas.openxmlformats.org/officeDocument/2006/relationships/image" Target="../media/image31.wmf"/><Relationship Id="rId12" Type="http://schemas.openxmlformats.org/officeDocument/2006/relationships/image" Target="../media/image30.wmf"/><Relationship Id="rId13" Type="http://schemas.openxmlformats.org/officeDocument/2006/relationships/image" Target="../media/image30.wmf"/><Relationship Id="rId14" Type="http://schemas.openxmlformats.org/officeDocument/2006/relationships/image" Target="../media/image31.wmf"/><Relationship Id="rId15" Type="http://schemas.openxmlformats.org/officeDocument/2006/relationships/image" Target="../media/image30.wmf"/><Relationship Id="rId16" Type="http://schemas.openxmlformats.org/officeDocument/2006/relationships/image" Target="../media/image30.wmf"/><Relationship Id="rId17" Type="http://schemas.openxmlformats.org/officeDocument/2006/relationships/image" Target="../media/image31.wmf"/><Relationship Id="rId18" Type="http://schemas.openxmlformats.org/officeDocument/2006/relationships/image" Target="../media/image30.wmf"/><Relationship Id="rId19" Type="http://schemas.openxmlformats.org/officeDocument/2006/relationships/image" Target="../media/image30.wmf"/><Relationship Id="rId20" Type="http://schemas.openxmlformats.org/officeDocument/2006/relationships/image" Target="../media/image31.wmf"/><Relationship Id="rId21" Type="http://schemas.openxmlformats.org/officeDocument/2006/relationships/image" Target="../media/image30.wmf"/><Relationship Id="rId22" Type="http://schemas.openxmlformats.org/officeDocument/2006/relationships/image" Target="../media/image32.wmf"/><Relationship Id="rId23" Type="http://schemas.openxmlformats.org/officeDocument/2006/relationships/image" Target="../media/image33.wmf"/><Relationship Id="rId24" Type="http://schemas.openxmlformats.org/officeDocument/2006/relationships/image" Target="../media/image32.wmf"/><Relationship Id="rId25" Type="http://schemas.openxmlformats.org/officeDocument/2006/relationships/image" Target="../media/image32.wmf"/><Relationship Id="rId26" Type="http://schemas.openxmlformats.org/officeDocument/2006/relationships/image" Target="../media/image33.wmf"/><Relationship Id="rId27" Type="http://schemas.openxmlformats.org/officeDocument/2006/relationships/image" Target="../media/image32.wmf"/><Relationship Id="rId28" Type="http://schemas.openxmlformats.org/officeDocument/2006/relationships/image" Target="../media/image32.wmf"/><Relationship Id="rId29" Type="http://schemas.openxmlformats.org/officeDocument/2006/relationships/image" Target="../media/image33.wmf"/><Relationship Id="rId30" Type="http://schemas.openxmlformats.org/officeDocument/2006/relationships/image" Target="../media/image32.wmf"/><Relationship Id="rId31" Type="http://schemas.openxmlformats.org/officeDocument/2006/relationships/image" Target="../media/image32.wmf"/><Relationship Id="rId32" Type="http://schemas.openxmlformats.org/officeDocument/2006/relationships/image" Target="../media/image33.wmf"/><Relationship Id="rId33" Type="http://schemas.openxmlformats.org/officeDocument/2006/relationships/image" Target="../media/image32.wmf"/><Relationship Id="rId34" Type="http://schemas.openxmlformats.org/officeDocument/2006/relationships/image" Target="../media/image32.wmf"/><Relationship Id="rId35" Type="http://schemas.openxmlformats.org/officeDocument/2006/relationships/image" Target="../media/image33.wmf"/><Relationship Id="rId36" Type="http://schemas.openxmlformats.org/officeDocument/2006/relationships/image" Target="../media/image32.wmf"/><Relationship Id="rId37" Type="http://schemas.openxmlformats.org/officeDocument/2006/relationships/image" Target="../media/image32.wmf"/><Relationship Id="rId38" Type="http://schemas.openxmlformats.org/officeDocument/2006/relationships/image" Target="../media/image33.wmf"/><Relationship Id="rId39" Type="http://schemas.openxmlformats.org/officeDocument/2006/relationships/image" Target="../media/image32.wmf"/><Relationship Id="rId40" Type="http://schemas.openxmlformats.org/officeDocument/2006/relationships/image" Target="../media/image30.wmf"/><Relationship Id="rId41" Type="http://schemas.openxmlformats.org/officeDocument/2006/relationships/image" Target="../media/image31.wmf"/><Relationship Id="rId42" Type="http://schemas.openxmlformats.org/officeDocument/2006/relationships/image" Target="../media/image30.wmf"/><Relationship Id="rId43" Type="http://schemas.openxmlformats.org/officeDocument/2006/relationships/image" Target="../media/image30.wmf"/><Relationship Id="rId44" Type="http://schemas.openxmlformats.org/officeDocument/2006/relationships/image" Target="../media/image31.wmf"/><Relationship Id="rId45" Type="http://schemas.openxmlformats.org/officeDocument/2006/relationships/image" Target="../media/image30.wmf"/><Relationship Id="rId46" Type="http://schemas.openxmlformats.org/officeDocument/2006/relationships/image" Target="../media/image30.wmf"/><Relationship Id="rId47" Type="http://schemas.openxmlformats.org/officeDocument/2006/relationships/image" Target="../media/image31.wmf"/><Relationship Id="rId48" Type="http://schemas.openxmlformats.org/officeDocument/2006/relationships/image" Target="../media/image30.wmf"/><Relationship Id="rId49" Type="http://schemas.openxmlformats.org/officeDocument/2006/relationships/image" Target="../media/image30.wmf"/><Relationship Id="rId50" Type="http://schemas.openxmlformats.org/officeDocument/2006/relationships/image" Target="../media/image31.wmf"/><Relationship Id="rId51" Type="http://schemas.openxmlformats.org/officeDocument/2006/relationships/image" Target="../media/image30.wmf"/><Relationship Id="rId52" Type="http://schemas.openxmlformats.org/officeDocument/2006/relationships/image" Target="../media/image30.wmf"/><Relationship Id="rId53" Type="http://schemas.openxmlformats.org/officeDocument/2006/relationships/image" Target="../media/image31.wmf"/><Relationship Id="rId54" Type="http://schemas.openxmlformats.org/officeDocument/2006/relationships/image" Target="../media/image30.wmf"/><Relationship Id="rId55" Type="http://schemas.openxmlformats.org/officeDocument/2006/relationships/image" Target="../media/image30.wmf"/><Relationship Id="rId56" Type="http://schemas.openxmlformats.org/officeDocument/2006/relationships/image" Target="../media/image31.wmf"/><Relationship Id="rId57" Type="http://schemas.openxmlformats.org/officeDocument/2006/relationships/image" Target="../media/image30.wmf"/><Relationship Id="rId58" Type="http://schemas.openxmlformats.org/officeDocument/2006/relationships/image" Target="../media/image30.wmf"/><Relationship Id="rId59" Type="http://schemas.openxmlformats.org/officeDocument/2006/relationships/image" Target="../media/image31.wmf"/><Relationship Id="rId60" Type="http://schemas.openxmlformats.org/officeDocument/2006/relationships/image" Target="../media/image30.wmf"/><Relationship Id="rId61" Type="http://schemas.openxmlformats.org/officeDocument/2006/relationships/image" Target="../media/image30.wmf"/><Relationship Id="rId62" Type="http://schemas.openxmlformats.org/officeDocument/2006/relationships/image" Target="../media/image31.wmf"/><Relationship Id="rId63" Type="http://schemas.openxmlformats.org/officeDocument/2006/relationships/image" Target="../media/image30.wmf"/><Relationship Id="rId64" Type="http://schemas.openxmlformats.org/officeDocument/2006/relationships/image" Target="../media/image30.wmf"/><Relationship Id="rId65" Type="http://schemas.openxmlformats.org/officeDocument/2006/relationships/image" Target="../media/image31.wmf"/><Relationship Id="rId66" Type="http://schemas.openxmlformats.org/officeDocument/2006/relationships/image" Target="../media/image30.wmf"/><Relationship Id="rId67" Type="http://schemas.openxmlformats.org/officeDocument/2006/relationships/slideLayout" Target="../slideLayouts/slideLayout3.xml"/><Relationship Id="rId68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6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image" Target="../media/image8.jpeg"/><Relationship Id="rId5" Type="http://schemas.openxmlformats.org/officeDocument/2006/relationships/oleObject" Target="../embeddings/oleObject2.bin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hyperlink" Target="http://www.crwflags.com/fotw/images/d/de.gif" TargetMode="External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hyperlink" Target="http://www.crwflags.com/fotw/images/g/gb.gif" TargetMode="External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9.png"/><Relationship Id="rId12" Type="http://schemas.openxmlformats.org/officeDocument/2006/relationships/hyperlink" Target="http://www.crwflags.com/fotw/images/i/it.gif" TargetMode="External"/><Relationship Id="rId13" Type="http://schemas.openxmlformats.org/officeDocument/2006/relationships/image" Target="../media/image20.png"/><Relationship Id="rId14" Type="http://schemas.openxmlformats.org/officeDocument/2006/relationships/image" Target="../media/image21.png"/><Relationship Id="rId15" Type="http://schemas.openxmlformats.org/officeDocument/2006/relationships/hyperlink" Target="http://www.crwflags.com/fotw/images/k/kr.gif" TargetMode="External"/><Relationship Id="rId16" Type="http://schemas.openxmlformats.org/officeDocument/2006/relationships/image" Target="../media/image22.png"/><Relationship Id="rId17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50840" y="803160"/>
            <a:ext cx="7331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52680" y="1295280"/>
            <a:ext cx="53341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5120" y="1344600"/>
            <a:ext cx="875376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Software Radio Domain SI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0066"/>
                </a:solidFill>
                <a:latin typeface="Arial"/>
              </a:rPr>
              <a:t>Focus 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Deployment &amp; Configuration RF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Arial"/>
              </a:rPr>
              <a:t>Software Radio RF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765440" y="5041800"/>
            <a:ext cx="5389560" cy="1460520"/>
            <a:chOff x="1765440" y="5041800"/>
            <a:chExt cx="5389560" cy="1460520"/>
          </a:xfrm>
        </p:grpSpPr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5651640" y="5041800"/>
              <a:ext cx="1503360" cy="1460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1" descr=""/>
            <p:cNvPicPr/>
            <p:nvPr/>
          </p:nvPicPr>
          <p:blipFill>
            <a:blip r:embed="rId2"/>
            <a:stretch/>
          </p:blipFill>
          <p:spPr>
            <a:xfrm>
              <a:off x="1765440" y="5180040"/>
              <a:ext cx="1322640" cy="1185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238920" y="5573880"/>
              <a:ext cx="2476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99"/>
                  </a:solidFill>
                  <a:latin typeface="Verdana"/>
                </a:rPr>
                <a:t>Mercury   </a:t>
              </a:r>
              <a:r>
                <a:rPr b="1" lang="en-US" sz="2000" spc="-1" strike="noStrike">
                  <a:solidFill>
                    <a:srgbClr val="000000"/>
                  </a:solidFill>
                  <a:latin typeface="MITRE"/>
                </a:rPr>
                <a:t>MITR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3283-BBF6-46D1-850A-0B6EF9EE0EA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80520" y="96840"/>
            <a:ext cx="79376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efing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46120" y="1219320"/>
            <a:ext cx="83692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int Tactical Radio System (JT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ware Communications Architecture (S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Radio DSI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CA and Deployment &amp; Configuration Commona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A Platform Independent Model (in-prog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CA001-A841-432F-9D83-10D0122813C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0" y="96840"/>
            <a:ext cx="914400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Radio and Deployment &amp; Configuration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FP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ame Problem – Different Domai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978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23920" indent="-2239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ployment and Configuration R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lnSpc>
                <a:spcPct val="9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posals should define Platform independent model(s) specifying automated support of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deployment and configuration of component-based distributed application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 This model should also support the description of heterogeneous distributed software and hardware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infrastructur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where distributed applications are to be deployed to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Palatino"/>
                <a:ea typeface="MS Minch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ftware Radio RF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-223920">
              <a:lnSpc>
                <a:spcPct val="90000"/>
              </a:lnSpc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Palatino"/>
                <a:ea typeface="Times New Roman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software radio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infrastructur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functions requested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in this RFP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rise o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-2239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Command and Control of a Software Radio…mechanism for controlling the waveform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MS Mincho"/>
              </a:rPr>
              <a:t>configurati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-22392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Deploymen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of Waveform and/or Communication Channel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-2239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aveform Control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… mechanism for controlling a deployed wavefor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96040" indent="-22392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vice Control -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MS Mincho"/>
              </a:rPr>
              <a:t>… mechanism for deploying and controlling 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MS Mincho"/>
              </a:rPr>
              <a:t>evices and retrieving information from devices within the radio.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601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CA50-D7B1-45AA-BFBD-9841B35995E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96840"/>
            <a:ext cx="914400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WRadi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omain-Specific Issu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5978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bedded environ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e support for entire radio, not just a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mall foot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osed, but extens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stributed heterogeneous 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BA capable &amp; non-CORBA capa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nimal CO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ensible Trans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ndard servi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htweight service derived from O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chanisms for radio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quirement for waveform portability across radi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4163-1BD8-473F-9EB2-214679CBAD9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53800" y="96840"/>
            <a:ext cx="87627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eptual View of Relationship between SWRadio and Deployment Mode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4533840" y="1130400"/>
            <a:ext cx="1346400" cy="9396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959200" y="3048120"/>
            <a:ext cx="1104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908440" y="3009960"/>
            <a:ext cx="1260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WRA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(Domain Specific) De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4647240" y="1117440"/>
            <a:ext cx="1236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 (PI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205520" y="266400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03920" y="4851360"/>
            <a:ext cx="125712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803920" y="4889520"/>
            <a:ext cx="119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CM PS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 flipH="1" flipV="1">
            <a:off x="5270040" y="2057400"/>
            <a:ext cx="101916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3708360" y="2057400"/>
            <a:ext cx="1333440" cy="1028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767560" y="234000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921040" y="5124600"/>
            <a:ext cx="1181160" cy="116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3441600" y="4114440"/>
            <a:ext cx="1800" cy="1019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2853720" y="5105520"/>
            <a:ext cx="1249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WRAD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De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latfor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peci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odel (PS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519720" y="426420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0280" y="1536840"/>
            <a:ext cx="11048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952560" y="1689120"/>
            <a:ext cx="11048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1104840" y="1841400"/>
            <a:ext cx="110484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079640" y="200664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M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BA Servic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2543040" y="2111400"/>
            <a:ext cx="10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ghtweigh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rot="19589400">
            <a:off x="2209680" y="2219040"/>
            <a:ext cx="88920" cy="88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276640" y="2290680"/>
            <a:ext cx="75708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03520" y="3051000"/>
            <a:ext cx="171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bedd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time Profil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 Framework f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RADI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5708520" y="3108240"/>
            <a:ext cx="119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CM PI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708520" y="3022560"/>
            <a:ext cx="125748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291720" y="1146240"/>
            <a:ext cx="21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333520" y="3343320"/>
            <a:ext cx="6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>
            <a:off x="5877000" y="133344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7302240" y="3070080"/>
            <a:ext cx="119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6943680" y="324792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315120" y="39625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320160" y="41860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flipV="1">
            <a:off x="4114800" y="5152680"/>
            <a:ext cx="1695600" cy="571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4453200" y="503388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s 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3D4C1-5D08-42DE-91DE-EBC2749318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96840"/>
            <a:ext cx="79376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 – Deployment Comparis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mainManagem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46120" y="1219320"/>
            <a:ext cx="83692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Common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stall/uninstall Assemblies/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s AssemblyTypeManager / ApplicationFactory from instal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arsing of Assembly Descrip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GMD Fokus CORBA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s CCM Component Assembly Descriptor (enterpris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CA CORBA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lso un/registration of Device and Device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adonly Attributes for ApplicationFactories, Applications, fileManager, DeviceManag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s Software Assembly Descriptor (embedded, CCM-base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6DC1-569B-4A3C-AB56-D1CD263E00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/>
          </p:nvPr>
        </p:nvSpPr>
        <p:spPr>
          <a:xfrm>
            <a:off x="545760" y="1219320"/>
            <a:ext cx="8318520" cy="50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Common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xy for Assembly/Applic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ar down behavi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d by the AssemblyTypeManager/Application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GMD Fokus CORBA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emb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CA CORBA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s a Type of Resource interface (allows reconfiguratio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n interface with additional readonly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emblyControll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visible external ports for an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onship to radio services (log, ev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 – Deployment Comparis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xy for Assembl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00AFE-59F3-473C-ADC8-B5202A003C0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 – Deployment Comparis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eation and Deploy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304920" y="1218960"/>
            <a:ext cx="86486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Common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embly/Application Creation/Deploy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s the factory design pattern (creation) behavior for Assemblies/Appl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oes the deployment of components onto NodeManagers/Devices based upon capacity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GMD Fokus CORBA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ssemblyType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sed upon Component Assembly Descriptor (C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May do some initial parsing of the CA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CA CORBA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Fac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sed upon Software Assembly Descriptor (SAD) which is derived from C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lizes, configures and connects components togethe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lationship to radio services (log, even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2A85-0F8B-4673-9E5D-243CC52A2FA5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 – Deployment Comparis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e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90440" y="1053720"/>
            <a:ext cx="876312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217080" indent="-21708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Common Concepts -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17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as capacity. Both approaches have device capacity concept but each approach appears to have done this differently. Further investigation is needed.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GMD Fokus CORBA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Node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17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reate containers and facilitate deployment of homes on those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17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has no concept of “load-only” deploy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7080" indent="-217080">
              <a:lnSpc>
                <a:spcPct val="90000"/>
              </a:lnSpc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CA CORBA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2880" indent="-217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vice, LoadableDevice, ExecutableDevice, Aggregate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17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vice inherits from Resource - Capacity operations and state attribu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17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Loadabledevice inherits from 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17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ableDevice inherits from LoadableDe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17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xecutableDevice execute() operation provides the context in which Resources/ResourceFactories [components/homes] ru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17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ggregateDevice – an aggregation of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8680" indent="-217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A has no concept of CCM container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ED7E-06D5-440F-97F3-9368A01C6B6F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 – Deployment Comparis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viceMana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546120" y="1218960"/>
            <a:ext cx="81662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Common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vice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ggregation of logical Devices and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GMD Fokus CORBA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CA CORBA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viceMana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Device Configuration Descriptor XML for DeviceManager configuration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3EA-E560-464E-B4E4-61D037A1FB48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 – Deployment Comparis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46120" y="1218960"/>
            <a:ext cx="81662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Common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GMD Fokus CORBA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RBA components properti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Initial Configuration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CA CORBA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A has configure, query, test, allocation, factory, and executable proper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EB150-8359-4C95-B6A7-270E3158F7E5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80520" y="96840"/>
            <a:ext cx="79376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efing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46120" y="1219320"/>
            <a:ext cx="83692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Joint Tactical Radio System (JTR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Communications Architecture (SC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Software Radio DSI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SCA and Deployment &amp; Configuration Comm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SCA Platform Independent Model (in-prog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862F8-B3D1-4B6C-B18B-0DEB003A0B4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 – Deployment Comparis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se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46120" y="1218960"/>
            <a:ext cx="81662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Common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Base 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GMD Fokus CORBA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CA CORBA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estableObject, PropertySet, Lifecycle, Resource, and ResourceFactory base interfaces for componen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ourceFactory is the home for a Resource componen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Resources can be created without a ResourceFacto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151C9-7A0B-4BFA-9E3F-F11E44CBFC1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 – Deployment Comparison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le Ser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546120" y="1218960"/>
            <a:ext cx="81662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Common Conce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le 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sed for the installation application and registration of Devices, retrieval of XML files, and loading of softw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GMD Fokus CORBA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CA CORBA Interfa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File, FileSystem, and FileManager interfac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2860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distributed file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2F881-B429-420B-A355-12E80E0B4164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80520" y="96840"/>
            <a:ext cx="79376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efing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46120" y="1219320"/>
            <a:ext cx="83692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int Tactical Radio System (JT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ware Communications Architecture (S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oftware Radio DSI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A and Deployment &amp; Configuration Comm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CA Platform Independent Model 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(in-prog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C4DF-7142-4B85-91DA-170B07D9E91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Radio PIM Mode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710560" y="61419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1"/>
          <a:stretch/>
        </p:blipFill>
        <p:spPr>
          <a:xfrm>
            <a:off x="380880" y="919080"/>
            <a:ext cx="8918640" cy="5511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6046F-3B2F-4EA9-90E8-3E6E9023964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Radio PIM Mode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Facto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710560" y="61419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182880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1"/>
          <a:stretch/>
        </p:blipFill>
        <p:spPr>
          <a:xfrm>
            <a:off x="123840" y="1231920"/>
            <a:ext cx="11172960" cy="5130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DF98D-EE1E-4201-9321-994793C09C93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Radio PIM Mode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main Manager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710560" y="61419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/>
          <p:cNvPicPr/>
          <p:nvPr/>
        </p:nvPicPr>
        <p:blipFill>
          <a:blip r:embed="rId1"/>
          <a:stretch/>
        </p:blipFill>
        <p:spPr>
          <a:xfrm>
            <a:off x="152280" y="1268280"/>
            <a:ext cx="11319120" cy="4911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B2485-6447-4311-AEBF-094B4DCFA16C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Radio PIM Mode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Base Application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710560" y="61419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5" name="" descr=""/>
          <p:cNvPicPr/>
          <p:nvPr/>
        </p:nvPicPr>
        <p:blipFill>
          <a:blip r:embed="rId1"/>
          <a:stretch/>
        </p:blipFill>
        <p:spPr>
          <a:xfrm>
            <a:off x="1170000" y="1233360"/>
            <a:ext cx="7246800" cy="501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BA406-4D72-466D-83A2-115C4BBF221A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Radio PIM Mode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ore Framework Base Typ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710560" y="61419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8" name="" descr=""/>
          <p:cNvPicPr/>
          <p:nvPr/>
        </p:nvPicPr>
        <p:blipFill>
          <a:blip r:embed="rId1"/>
          <a:stretch/>
        </p:blipFill>
        <p:spPr>
          <a:xfrm>
            <a:off x="0" y="1309680"/>
            <a:ext cx="8810640" cy="4757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FBA0-1ACF-4E8D-9FDB-36DFD06D0DD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Radio PIM Mode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evice 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8710560" y="61419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1" name=""/>
          <p:cNvGrpSpPr/>
          <p:nvPr/>
        </p:nvGrpSpPr>
        <p:grpSpPr>
          <a:xfrm>
            <a:off x="1692360" y="1108080"/>
            <a:ext cx="5622840" cy="5530680"/>
            <a:chOff x="1692360" y="1108080"/>
            <a:chExt cx="5622840" cy="5530680"/>
          </a:xfrm>
        </p:grpSpPr>
        <p:grpSp>
          <p:nvGrpSpPr>
            <p:cNvPr id="452" name=""/>
            <p:cNvGrpSpPr/>
            <p:nvPr/>
          </p:nvGrpSpPr>
          <p:grpSpPr>
            <a:xfrm>
              <a:off x="5621400" y="3211560"/>
              <a:ext cx="1693800" cy="892080"/>
              <a:chOff x="5621400" y="3211560"/>
              <a:chExt cx="1693800" cy="892080"/>
            </a:xfrm>
          </p:grpSpPr>
          <p:sp>
            <p:nvSpPr>
              <p:cNvPr id="453" name=""/>
              <p:cNvSpPr/>
              <p:nvPr/>
            </p:nvSpPr>
            <p:spPr>
              <a:xfrm>
                <a:off x="5621400" y="3211560"/>
                <a:ext cx="1693800" cy="8920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5993640" y="3251160"/>
                <a:ext cx="969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ggregateDevi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621400" y="3417840"/>
                <a:ext cx="1693800" cy="6858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5621400" y="3652920"/>
                <a:ext cx="1693800" cy="450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5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5651640" y="343692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651640" y="343692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5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5651640" y="343692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0" name=""/>
              <p:cNvSpPr/>
              <p:nvPr/>
            </p:nvSpPr>
            <p:spPr>
              <a:xfrm>
                <a:off x="5805360" y="3436920"/>
                <a:ext cx="1491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vices : DeviceSequen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1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5651640" y="3751200"/>
                <a:ext cx="15552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2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5651640" y="3751200"/>
                <a:ext cx="15552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3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5651640" y="3751200"/>
                <a:ext cx="15552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4" name=""/>
              <p:cNvSpPr/>
              <p:nvPr/>
            </p:nvSpPr>
            <p:spPr>
              <a:xfrm>
                <a:off x="5806800" y="3751200"/>
                <a:ext cx="68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ddDevice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65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5651640" y="390672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6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5651640" y="390672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67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5651640" y="390672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68" name=""/>
              <p:cNvSpPr/>
              <p:nvPr/>
            </p:nvSpPr>
            <p:spPr>
              <a:xfrm>
                <a:off x="5807160" y="3906720"/>
                <a:ext cx="89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removeDevice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9" name=""/>
            <p:cNvGrpSpPr/>
            <p:nvPr/>
          </p:nvGrpSpPr>
          <p:grpSpPr>
            <a:xfrm>
              <a:off x="4903920" y="5904000"/>
              <a:ext cx="1214280" cy="734760"/>
              <a:chOff x="4903920" y="5904000"/>
              <a:chExt cx="1214280" cy="734760"/>
            </a:xfrm>
          </p:grpSpPr>
          <p:sp>
            <p:nvSpPr>
              <p:cNvPr id="470" name=""/>
              <p:cNvSpPr/>
              <p:nvPr/>
            </p:nvSpPr>
            <p:spPr>
              <a:xfrm>
                <a:off x="4903920" y="5904000"/>
                <a:ext cx="1214280" cy="7347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010840" y="5933880"/>
                <a:ext cx="1012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xecutableDevi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4903920" y="6110280"/>
                <a:ext cx="1214280" cy="5281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4903920" y="6188040"/>
                <a:ext cx="1214280" cy="450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4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4933800" y="6286320"/>
                <a:ext cx="155160" cy="14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5" name="" descr=""/>
              <p:cNvPicPr/>
              <p:nvPr/>
            </p:nvPicPr>
            <p:blipFill>
              <a:blip r:embed="rId11"/>
              <a:stretch/>
            </p:blipFill>
            <p:spPr>
              <a:xfrm>
                <a:off x="4933800" y="6286320"/>
                <a:ext cx="155160" cy="1472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6" name="" descr=""/>
              <p:cNvPicPr/>
              <p:nvPr/>
            </p:nvPicPr>
            <p:blipFill>
              <a:blip r:embed="rId12"/>
              <a:stretch/>
            </p:blipFill>
            <p:spPr>
              <a:xfrm>
                <a:off x="4933800" y="6286320"/>
                <a:ext cx="155160" cy="147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77" name=""/>
              <p:cNvSpPr/>
              <p:nvPr/>
            </p:nvSpPr>
            <p:spPr>
              <a:xfrm>
                <a:off x="5089320" y="6286320"/>
                <a:ext cx="612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terminate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78" name="" descr=""/>
              <p:cNvPicPr/>
              <p:nvPr/>
            </p:nvPicPr>
            <p:blipFill>
              <a:blip r:embed="rId13"/>
              <a:stretch/>
            </p:blipFill>
            <p:spPr>
              <a:xfrm>
                <a:off x="4933800" y="6443640"/>
                <a:ext cx="155160" cy="14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79" name="" descr=""/>
              <p:cNvPicPr/>
              <p:nvPr/>
            </p:nvPicPr>
            <p:blipFill>
              <a:blip r:embed="rId14"/>
              <a:stretch/>
            </p:blipFill>
            <p:spPr>
              <a:xfrm>
                <a:off x="4933800" y="6443640"/>
                <a:ext cx="155160" cy="14544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0" name="" descr=""/>
              <p:cNvPicPr/>
              <p:nvPr/>
            </p:nvPicPr>
            <p:blipFill>
              <a:blip r:embed="rId15"/>
              <a:stretch/>
            </p:blipFill>
            <p:spPr>
              <a:xfrm>
                <a:off x="4933800" y="6443640"/>
                <a:ext cx="155160" cy="145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81" name=""/>
              <p:cNvSpPr/>
              <p:nvPr/>
            </p:nvSpPr>
            <p:spPr>
              <a:xfrm>
                <a:off x="5087880" y="6443640"/>
                <a:ext cx="529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execute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2" name=""/>
            <p:cNvGrpSpPr/>
            <p:nvPr/>
          </p:nvGrpSpPr>
          <p:grpSpPr>
            <a:xfrm>
              <a:off x="3822840" y="4879800"/>
              <a:ext cx="1038240" cy="743040"/>
              <a:chOff x="3822840" y="4879800"/>
              <a:chExt cx="1038240" cy="743040"/>
            </a:xfrm>
          </p:grpSpPr>
          <p:sp>
            <p:nvSpPr>
              <p:cNvPr id="483" name=""/>
              <p:cNvSpPr/>
              <p:nvPr/>
            </p:nvSpPr>
            <p:spPr>
              <a:xfrm>
                <a:off x="3822840" y="4879800"/>
                <a:ext cx="1038240" cy="74304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3900240" y="4917960"/>
                <a:ext cx="906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oadableDevi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3822840" y="5094360"/>
                <a:ext cx="1038240" cy="528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3822840" y="5173560"/>
                <a:ext cx="1038240" cy="4492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87" name="" descr=""/>
              <p:cNvPicPr/>
              <p:nvPr/>
            </p:nvPicPr>
            <p:blipFill>
              <a:blip r:embed="rId16"/>
              <a:stretch/>
            </p:blipFill>
            <p:spPr>
              <a:xfrm>
                <a:off x="3851280" y="5261040"/>
                <a:ext cx="1573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8" name="" descr=""/>
              <p:cNvPicPr/>
              <p:nvPr/>
            </p:nvPicPr>
            <p:blipFill>
              <a:blip r:embed="rId17"/>
              <a:stretch/>
            </p:blipFill>
            <p:spPr>
              <a:xfrm>
                <a:off x="3851280" y="5261040"/>
                <a:ext cx="1573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89" name="" descr=""/>
              <p:cNvPicPr/>
              <p:nvPr/>
            </p:nvPicPr>
            <p:blipFill>
              <a:blip r:embed="rId18"/>
              <a:stretch/>
            </p:blipFill>
            <p:spPr>
              <a:xfrm>
                <a:off x="3851280" y="5261040"/>
                <a:ext cx="157320" cy="14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0" name=""/>
              <p:cNvSpPr/>
              <p:nvPr/>
            </p:nvSpPr>
            <p:spPr>
              <a:xfrm>
                <a:off x="4008600" y="5261040"/>
                <a:ext cx="323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oad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491" name="" descr=""/>
              <p:cNvPicPr/>
              <p:nvPr/>
            </p:nvPicPr>
            <p:blipFill>
              <a:blip r:embed="rId19"/>
              <a:stretch/>
            </p:blipFill>
            <p:spPr>
              <a:xfrm>
                <a:off x="3851280" y="5418000"/>
                <a:ext cx="15732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2" name="" descr=""/>
              <p:cNvPicPr/>
              <p:nvPr/>
            </p:nvPicPr>
            <p:blipFill>
              <a:blip r:embed="rId20"/>
              <a:stretch/>
            </p:blipFill>
            <p:spPr>
              <a:xfrm>
                <a:off x="3851280" y="5418000"/>
                <a:ext cx="15732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493" name="" descr=""/>
              <p:cNvPicPr/>
              <p:nvPr/>
            </p:nvPicPr>
            <p:blipFill>
              <a:blip r:embed="rId21"/>
              <a:stretch/>
            </p:blipFill>
            <p:spPr>
              <a:xfrm>
                <a:off x="3851280" y="5418000"/>
                <a:ext cx="15732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94" name=""/>
              <p:cNvSpPr/>
              <p:nvPr/>
            </p:nvSpPr>
            <p:spPr>
              <a:xfrm>
                <a:off x="4008600" y="5418000"/>
                <a:ext cx="464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nload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5" name=""/>
            <p:cNvGrpSpPr/>
            <p:nvPr/>
          </p:nvGrpSpPr>
          <p:grpSpPr>
            <a:xfrm>
              <a:off x="2340000" y="1892160"/>
              <a:ext cx="2252520" cy="2770200"/>
              <a:chOff x="2340000" y="1892160"/>
              <a:chExt cx="2252520" cy="2770200"/>
            </a:xfrm>
          </p:grpSpPr>
          <p:sp>
            <p:nvSpPr>
              <p:cNvPr id="496" name=""/>
              <p:cNvSpPr/>
              <p:nvPr/>
            </p:nvSpPr>
            <p:spPr>
              <a:xfrm>
                <a:off x="2340000" y="1892160"/>
                <a:ext cx="2252520" cy="27702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3281400" y="1930320"/>
                <a:ext cx="387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vi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2340000" y="2097000"/>
                <a:ext cx="2252520" cy="256536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2340000" y="3116160"/>
                <a:ext cx="2252520" cy="15462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0" name="" descr=""/>
              <p:cNvPicPr/>
              <p:nvPr/>
            </p:nvPicPr>
            <p:blipFill>
              <a:blip r:embed="rId22"/>
              <a:stretch/>
            </p:blipFill>
            <p:spPr>
              <a:xfrm>
                <a:off x="2370240" y="211608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1" name="" descr=""/>
              <p:cNvPicPr/>
              <p:nvPr/>
            </p:nvPicPr>
            <p:blipFill>
              <a:blip r:embed="rId23"/>
              <a:stretch/>
            </p:blipFill>
            <p:spPr>
              <a:xfrm>
                <a:off x="2370240" y="211608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2" name="" descr=""/>
              <p:cNvPicPr/>
              <p:nvPr/>
            </p:nvPicPr>
            <p:blipFill>
              <a:blip r:embed="rId24"/>
              <a:stretch/>
            </p:blipFill>
            <p:spPr>
              <a:xfrm>
                <a:off x="2370240" y="211608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3" name=""/>
              <p:cNvSpPr/>
              <p:nvPr/>
            </p:nvSpPr>
            <p:spPr>
              <a:xfrm>
                <a:off x="2523600" y="2116080"/>
                <a:ext cx="1392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usageState : UsageTyp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4" name="" descr=""/>
              <p:cNvPicPr/>
              <p:nvPr/>
            </p:nvPicPr>
            <p:blipFill>
              <a:blip r:embed="rId25"/>
              <a:stretch/>
            </p:blipFill>
            <p:spPr>
              <a:xfrm>
                <a:off x="2370240" y="227304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5" name="" descr=""/>
              <p:cNvPicPr/>
              <p:nvPr/>
            </p:nvPicPr>
            <p:blipFill>
              <a:blip r:embed="rId26"/>
              <a:stretch/>
            </p:blipFill>
            <p:spPr>
              <a:xfrm>
                <a:off x="2370240" y="227304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6" name="" descr=""/>
              <p:cNvPicPr/>
              <p:nvPr/>
            </p:nvPicPr>
            <p:blipFill>
              <a:blip r:embed="rId27"/>
              <a:stretch/>
            </p:blipFill>
            <p:spPr>
              <a:xfrm>
                <a:off x="2370240" y="227304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07" name=""/>
              <p:cNvSpPr/>
              <p:nvPr/>
            </p:nvSpPr>
            <p:spPr>
              <a:xfrm>
                <a:off x="2526480" y="2273040"/>
                <a:ext cx="138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dminState : AdminTyp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8" name="" descr=""/>
              <p:cNvPicPr/>
              <p:nvPr/>
            </p:nvPicPr>
            <p:blipFill>
              <a:blip r:embed="rId28"/>
              <a:stretch/>
            </p:blipFill>
            <p:spPr>
              <a:xfrm>
                <a:off x="2370240" y="2430360"/>
                <a:ext cx="155520" cy="14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09" name="" descr=""/>
              <p:cNvPicPr/>
              <p:nvPr/>
            </p:nvPicPr>
            <p:blipFill>
              <a:blip r:embed="rId29"/>
              <a:stretch/>
            </p:blipFill>
            <p:spPr>
              <a:xfrm>
                <a:off x="2370240" y="2430360"/>
                <a:ext cx="155520" cy="14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0" name="" descr=""/>
              <p:cNvPicPr/>
              <p:nvPr/>
            </p:nvPicPr>
            <p:blipFill>
              <a:blip r:embed="rId30"/>
              <a:stretch/>
            </p:blipFill>
            <p:spPr>
              <a:xfrm>
                <a:off x="2370240" y="2430360"/>
                <a:ext cx="15552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1" name=""/>
              <p:cNvSpPr/>
              <p:nvPr/>
            </p:nvSpPr>
            <p:spPr>
              <a:xfrm>
                <a:off x="2525040" y="2430360"/>
                <a:ext cx="1957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operationalState : OperationalTyp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2" name="" descr=""/>
              <p:cNvPicPr/>
              <p:nvPr/>
            </p:nvPicPr>
            <p:blipFill>
              <a:blip r:embed="rId31"/>
              <a:stretch/>
            </p:blipFill>
            <p:spPr>
              <a:xfrm>
                <a:off x="2370240" y="2587320"/>
                <a:ext cx="15552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3" name="" descr=""/>
              <p:cNvPicPr/>
              <p:nvPr/>
            </p:nvPicPr>
            <p:blipFill>
              <a:blip r:embed="rId32"/>
              <a:stretch/>
            </p:blipFill>
            <p:spPr>
              <a:xfrm>
                <a:off x="2370240" y="2587320"/>
                <a:ext cx="15552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4" name="" descr=""/>
              <p:cNvPicPr/>
              <p:nvPr/>
            </p:nvPicPr>
            <p:blipFill>
              <a:blip r:embed="rId33"/>
              <a:stretch/>
            </p:blipFill>
            <p:spPr>
              <a:xfrm>
                <a:off x="2370240" y="2587320"/>
                <a:ext cx="15552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5" name=""/>
              <p:cNvSpPr/>
              <p:nvPr/>
            </p:nvSpPr>
            <p:spPr>
              <a:xfrm>
                <a:off x="2526120" y="2587320"/>
                <a:ext cx="1250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oftwareProfile : str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16" name="" descr=""/>
              <p:cNvPicPr/>
              <p:nvPr/>
            </p:nvPicPr>
            <p:blipFill>
              <a:blip r:embed="rId34"/>
              <a:stretch/>
            </p:blipFill>
            <p:spPr>
              <a:xfrm>
                <a:off x="2370240" y="274284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7" name="" descr=""/>
              <p:cNvPicPr/>
              <p:nvPr/>
            </p:nvPicPr>
            <p:blipFill>
              <a:blip r:embed="rId35"/>
              <a:stretch/>
            </p:blipFill>
            <p:spPr>
              <a:xfrm>
                <a:off x="2370240" y="274284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8" name="" descr=""/>
              <p:cNvPicPr/>
              <p:nvPr/>
            </p:nvPicPr>
            <p:blipFill>
              <a:blip r:embed="rId36"/>
              <a:stretch/>
            </p:blipFill>
            <p:spPr>
              <a:xfrm>
                <a:off x="2370240" y="274284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19" name=""/>
              <p:cNvSpPr/>
              <p:nvPr/>
            </p:nvSpPr>
            <p:spPr>
              <a:xfrm>
                <a:off x="2526120" y="2742840"/>
                <a:ext cx="68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label : string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0" name="" descr=""/>
              <p:cNvPicPr/>
              <p:nvPr/>
            </p:nvPicPr>
            <p:blipFill>
              <a:blip r:embed="rId37"/>
              <a:stretch/>
            </p:blipFill>
            <p:spPr>
              <a:xfrm>
                <a:off x="2370240" y="2900160"/>
                <a:ext cx="15552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1" name="" descr=""/>
              <p:cNvPicPr/>
              <p:nvPr/>
            </p:nvPicPr>
            <p:blipFill>
              <a:blip r:embed="rId38"/>
              <a:stretch/>
            </p:blipFill>
            <p:spPr>
              <a:xfrm>
                <a:off x="2370240" y="2900160"/>
                <a:ext cx="15552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2" name="" descr=""/>
              <p:cNvPicPr/>
              <p:nvPr/>
            </p:nvPicPr>
            <p:blipFill>
              <a:blip r:embed="rId39"/>
              <a:stretch/>
            </p:blipFill>
            <p:spPr>
              <a:xfrm>
                <a:off x="2370240" y="2900160"/>
                <a:ext cx="15552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3" name=""/>
              <p:cNvSpPr/>
              <p:nvPr/>
            </p:nvSpPr>
            <p:spPr>
              <a:xfrm>
                <a:off x="2525040" y="2900160"/>
                <a:ext cx="2038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mpositeDevice : AggregateDevi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4" name="" descr=""/>
              <p:cNvPicPr/>
              <p:nvPr/>
            </p:nvPicPr>
            <p:blipFill>
              <a:blip r:embed="rId40"/>
              <a:stretch/>
            </p:blipFill>
            <p:spPr>
              <a:xfrm>
                <a:off x="2370240" y="321300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5" name="" descr=""/>
              <p:cNvPicPr/>
              <p:nvPr/>
            </p:nvPicPr>
            <p:blipFill>
              <a:blip r:embed="rId41"/>
              <a:stretch/>
            </p:blipFill>
            <p:spPr>
              <a:xfrm>
                <a:off x="2370240" y="321300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6" name="" descr=""/>
              <p:cNvPicPr/>
              <p:nvPr/>
            </p:nvPicPr>
            <p:blipFill>
              <a:blip r:embed="rId42"/>
              <a:stretch/>
            </p:blipFill>
            <p:spPr>
              <a:xfrm>
                <a:off x="2370240" y="321300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7" name=""/>
              <p:cNvSpPr/>
              <p:nvPr/>
            </p:nvSpPr>
            <p:spPr>
              <a:xfrm>
                <a:off x="2525760" y="3213000"/>
                <a:ext cx="1012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allocateCapacity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28" name="" descr=""/>
              <p:cNvPicPr/>
              <p:nvPr/>
            </p:nvPicPr>
            <p:blipFill>
              <a:blip r:embed="rId43"/>
              <a:stretch/>
            </p:blipFill>
            <p:spPr>
              <a:xfrm>
                <a:off x="2370240" y="336996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29" name="" descr=""/>
              <p:cNvPicPr/>
              <p:nvPr/>
            </p:nvPicPr>
            <p:blipFill>
              <a:blip r:embed="rId44"/>
              <a:stretch/>
            </p:blipFill>
            <p:spPr>
              <a:xfrm>
                <a:off x="2370240" y="336996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0" name="" descr=""/>
              <p:cNvPicPr/>
              <p:nvPr/>
            </p:nvPicPr>
            <p:blipFill>
              <a:blip r:embed="rId45"/>
              <a:stretch/>
            </p:blipFill>
            <p:spPr>
              <a:xfrm>
                <a:off x="2370240" y="336996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1" name=""/>
              <p:cNvSpPr/>
              <p:nvPr/>
            </p:nvSpPr>
            <p:spPr>
              <a:xfrm>
                <a:off x="2525760" y="3369960"/>
                <a:ext cx="115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eallocateCapacity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2" name="" descr=""/>
              <p:cNvPicPr/>
              <p:nvPr/>
            </p:nvPicPr>
            <p:blipFill>
              <a:blip r:embed="rId46"/>
              <a:stretch/>
            </p:blipFill>
            <p:spPr>
              <a:xfrm>
                <a:off x="2370240" y="3527280"/>
                <a:ext cx="155520" cy="14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3" name="" descr=""/>
              <p:cNvPicPr/>
              <p:nvPr/>
            </p:nvPicPr>
            <p:blipFill>
              <a:blip r:embed="rId47"/>
              <a:stretch/>
            </p:blipFill>
            <p:spPr>
              <a:xfrm>
                <a:off x="2370240" y="3527280"/>
                <a:ext cx="155520" cy="1458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4" name="" descr=""/>
              <p:cNvPicPr/>
              <p:nvPr/>
            </p:nvPicPr>
            <p:blipFill>
              <a:blip r:embed="rId48"/>
              <a:stretch/>
            </p:blipFill>
            <p:spPr>
              <a:xfrm>
                <a:off x="2370240" y="3527280"/>
                <a:ext cx="155520" cy="145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5" name=""/>
              <p:cNvSpPr/>
              <p:nvPr/>
            </p:nvSpPr>
            <p:spPr>
              <a:xfrm>
                <a:off x="2524680" y="352728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tUsageState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36" name="" descr=""/>
              <p:cNvPicPr/>
              <p:nvPr/>
            </p:nvPicPr>
            <p:blipFill>
              <a:blip r:embed="rId49"/>
              <a:stretch/>
            </p:blipFill>
            <p:spPr>
              <a:xfrm>
                <a:off x="2370240" y="368280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7" name="" descr=""/>
              <p:cNvPicPr/>
              <p:nvPr/>
            </p:nvPicPr>
            <p:blipFill>
              <a:blip r:embed="rId50"/>
              <a:stretch/>
            </p:blipFill>
            <p:spPr>
              <a:xfrm>
                <a:off x="2370240" y="368280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38" name="" descr=""/>
              <p:cNvPicPr/>
              <p:nvPr/>
            </p:nvPicPr>
            <p:blipFill>
              <a:blip r:embed="rId51"/>
              <a:stretch/>
            </p:blipFill>
            <p:spPr>
              <a:xfrm>
                <a:off x="2370240" y="368280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39" name=""/>
              <p:cNvSpPr/>
              <p:nvPr/>
            </p:nvSpPr>
            <p:spPr>
              <a:xfrm>
                <a:off x="2525040" y="3682800"/>
                <a:ext cx="1207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tOperationalState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0" name="" descr=""/>
              <p:cNvPicPr/>
              <p:nvPr/>
            </p:nvPicPr>
            <p:blipFill>
              <a:blip r:embed="rId52"/>
              <a:stretch/>
            </p:blipFill>
            <p:spPr>
              <a:xfrm>
                <a:off x="2370240" y="384012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1" name="" descr=""/>
              <p:cNvPicPr/>
              <p:nvPr/>
            </p:nvPicPr>
            <p:blipFill>
              <a:blip r:embed="rId53"/>
              <a:stretch/>
            </p:blipFill>
            <p:spPr>
              <a:xfrm>
                <a:off x="2370240" y="384012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2" name="" descr=""/>
              <p:cNvPicPr/>
              <p:nvPr/>
            </p:nvPicPr>
            <p:blipFill>
              <a:blip r:embed="rId54"/>
              <a:stretch/>
            </p:blipFill>
            <p:spPr>
              <a:xfrm>
                <a:off x="2370240" y="384012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3" name=""/>
              <p:cNvSpPr/>
              <p:nvPr/>
            </p:nvSpPr>
            <p:spPr>
              <a:xfrm>
                <a:off x="2525760" y="3840120"/>
                <a:ext cx="9061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etAdminState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4" name="" descr=""/>
              <p:cNvPicPr/>
              <p:nvPr/>
            </p:nvPicPr>
            <p:blipFill>
              <a:blip r:embed="rId55"/>
              <a:stretch/>
            </p:blipFill>
            <p:spPr>
              <a:xfrm>
                <a:off x="2370240" y="3997080"/>
                <a:ext cx="15552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5" name="" descr=""/>
              <p:cNvPicPr/>
              <p:nvPr/>
            </p:nvPicPr>
            <p:blipFill>
              <a:blip r:embed="rId56"/>
              <a:stretch/>
            </p:blipFill>
            <p:spPr>
              <a:xfrm>
                <a:off x="2370240" y="3997080"/>
                <a:ext cx="15552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6" name="" descr=""/>
              <p:cNvPicPr/>
              <p:nvPr/>
            </p:nvPicPr>
            <p:blipFill>
              <a:blip r:embed="rId57"/>
              <a:stretch/>
            </p:blipFill>
            <p:spPr>
              <a:xfrm>
                <a:off x="2370240" y="3997080"/>
                <a:ext cx="15552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7" name=""/>
              <p:cNvSpPr/>
              <p:nvPr/>
            </p:nvSpPr>
            <p:spPr>
              <a:xfrm>
                <a:off x="2526120" y="3997080"/>
                <a:ext cx="91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tAdminState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48" name="" descr=""/>
              <p:cNvPicPr/>
              <p:nvPr/>
            </p:nvPicPr>
            <p:blipFill>
              <a:blip r:embed="rId58"/>
              <a:stretch/>
            </p:blipFill>
            <p:spPr>
              <a:xfrm>
                <a:off x="2370240" y="415260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49" name="" descr=""/>
              <p:cNvPicPr/>
              <p:nvPr/>
            </p:nvPicPr>
            <p:blipFill>
              <a:blip r:embed="rId59"/>
              <a:stretch/>
            </p:blipFill>
            <p:spPr>
              <a:xfrm>
                <a:off x="2370240" y="415260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0" name="" descr=""/>
              <p:cNvPicPr/>
              <p:nvPr/>
            </p:nvPicPr>
            <p:blipFill>
              <a:blip r:embed="rId60"/>
              <a:stretch/>
            </p:blipFill>
            <p:spPr>
              <a:xfrm>
                <a:off x="2370240" y="415260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1" name=""/>
              <p:cNvSpPr/>
              <p:nvPr/>
            </p:nvSpPr>
            <p:spPr>
              <a:xfrm>
                <a:off x="2526120" y="4152600"/>
                <a:ext cx="1116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tSoftwareProfile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2" name="" descr=""/>
              <p:cNvPicPr/>
              <p:nvPr/>
            </p:nvPicPr>
            <p:blipFill>
              <a:blip r:embed="rId61"/>
              <a:stretch/>
            </p:blipFill>
            <p:spPr>
              <a:xfrm>
                <a:off x="2370240" y="430992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3" name="" descr=""/>
              <p:cNvPicPr/>
              <p:nvPr/>
            </p:nvPicPr>
            <p:blipFill>
              <a:blip r:embed="rId62"/>
              <a:stretch/>
            </p:blipFill>
            <p:spPr>
              <a:xfrm>
                <a:off x="2370240" y="430992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4" name="" descr=""/>
              <p:cNvPicPr/>
              <p:nvPr/>
            </p:nvPicPr>
            <p:blipFill>
              <a:blip r:embed="rId63"/>
              <a:stretch/>
            </p:blipFill>
            <p:spPr>
              <a:xfrm>
                <a:off x="2370240" y="4309920"/>
                <a:ext cx="155520" cy="147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5" name=""/>
              <p:cNvSpPr/>
              <p:nvPr/>
            </p:nvSpPr>
            <p:spPr>
              <a:xfrm>
                <a:off x="2525400" y="4309920"/>
                <a:ext cx="56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tLabel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56" name="" descr=""/>
              <p:cNvPicPr/>
              <p:nvPr/>
            </p:nvPicPr>
            <p:blipFill>
              <a:blip r:embed="rId64"/>
              <a:stretch/>
            </p:blipFill>
            <p:spPr>
              <a:xfrm>
                <a:off x="2370240" y="4466880"/>
                <a:ext cx="15552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7" name="" descr=""/>
              <p:cNvPicPr/>
              <p:nvPr/>
            </p:nvPicPr>
            <p:blipFill>
              <a:blip r:embed="rId65"/>
              <a:stretch/>
            </p:blipFill>
            <p:spPr>
              <a:xfrm>
                <a:off x="2370240" y="4466880"/>
                <a:ext cx="155520" cy="14616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58" name="" descr=""/>
              <p:cNvPicPr/>
              <p:nvPr/>
            </p:nvPicPr>
            <p:blipFill>
              <a:blip r:embed="rId66"/>
              <a:stretch/>
            </p:blipFill>
            <p:spPr>
              <a:xfrm>
                <a:off x="2370240" y="4466880"/>
                <a:ext cx="155520" cy="14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9" name=""/>
              <p:cNvSpPr/>
              <p:nvPr/>
            </p:nvSpPr>
            <p:spPr>
              <a:xfrm>
                <a:off x="2525760" y="4466880"/>
                <a:ext cx="125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getCompositeDevice(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0" name=""/>
            <p:cNvGrpSpPr/>
            <p:nvPr/>
          </p:nvGrpSpPr>
          <p:grpSpPr>
            <a:xfrm>
              <a:off x="1692360" y="1108080"/>
              <a:ext cx="1136520" cy="538200"/>
              <a:chOff x="1692360" y="1108080"/>
              <a:chExt cx="1136520" cy="538200"/>
            </a:xfrm>
          </p:grpSpPr>
          <p:sp>
            <p:nvSpPr>
              <p:cNvPr id="561" name=""/>
              <p:cNvSpPr/>
              <p:nvPr/>
            </p:nvSpPr>
            <p:spPr>
              <a:xfrm>
                <a:off x="1692360" y="1108080"/>
                <a:ext cx="1136520" cy="53820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1838160" y="1146240"/>
                <a:ext cx="837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SWRResourc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1692360" y="1450800"/>
                <a:ext cx="1136520" cy="19548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4" name=""/>
              <p:cNvSpPr/>
              <p:nvPr/>
            </p:nvSpPr>
            <p:spPr>
              <a:xfrm>
                <a:off x="1692360" y="1528560"/>
                <a:ext cx="1136520" cy="117720"/>
              </a:xfrm>
              <a:prstGeom prst="rect">
                <a:avLst/>
              </a:prstGeom>
              <a:noFill/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1719360" y="1312920"/>
                <a:ext cx="1063080" cy="122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800" spc="-1" strike="noStrike">
                    <a:solidFill>
                      <a:srgbClr val="000000"/>
                    </a:solidFill>
                    <a:latin typeface="Arial"/>
                  </a:rPr>
                  <a:t>(from Base Application)</a:t>
                </a:r>
                <a:endParaRPr b="0" lang="en-US" sz="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6" name=""/>
            <p:cNvGrpSpPr/>
            <p:nvPr/>
          </p:nvGrpSpPr>
          <p:grpSpPr>
            <a:xfrm>
              <a:off x="2326680" y="1628280"/>
              <a:ext cx="475200" cy="258480"/>
              <a:chOff x="2326680" y="1628280"/>
              <a:chExt cx="475200" cy="258480"/>
            </a:xfrm>
          </p:grpSpPr>
          <p:sp>
            <p:nvSpPr>
              <p:cNvPr id="567" name=""/>
              <p:cNvSpPr/>
              <p:nvPr/>
            </p:nvSpPr>
            <p:spPr>
              <a:xfrm flipH="1" flipV="1">
                <a:off x="2354400" y="1689840"/>
                <a:ext cx="447480" cy="19692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8" name=""/>
              <p:cNvSpPr/>
              <p:nvPr/>
            </p:nvSpPr>
            <p:spPr>
              <a:xfrm rot="17616600">
                <a:off x="2370600" y="1634760"/>
                <a:ext cx="136440" cy="185760"/>
              </a:xfrm>
              <a:custGeom>
                <a:avLst/>
                <a:gdLst/>
                <a:ahLst/>
                <a:rect l="l" t="t" r="r" b="b"/>
                <a:pathLst>
                  <a:path w="86" h="117">
                    <a:moveTo>
                      <a:pt x="43" y="0"/>
                    </a:moveTo>
                    <a:lnTo>
                      <a:pt x="86" y="117"/>
                    </a:lnTo>
                    <a:lnTo>
                      <a:pt x="0" y="11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9" name=""/>
            <p:cNvGrpSpPr/>
            <p:nvPr/>
          </p:nvGrpSpPr>
          <p:grpSpPr>
            <a:xfrm>
              <a:off x="3442320" y="4629600"/>
              <a:ext cx="484560" cy="223560"/>
              <a:chOff x="3442320" y="4629600"/>
              <a:chExt cx="484560" cy="223560"/>
            </a:xfrm>
          </p:grpSpPr>
          <p:sp>
            <p:nvSpPr>
              <p:cNvPr id="570" name=""/>
              <p:cNvSpPr/>
              <p:nvPr/>
            </p:nvSpPr>
            <p:spPr>
              <a:xfrm flipH="1" flipV="1">
                <a:off x="3465000" y="4692600"/>
                <a:ext cx="461880" cy="16056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1" name=""/>
              <p:cNvSpPr/>
              <p:nvPr/>
            </p:nvSpPr>
            <p:spPr>
              <a:xfrm rot="17340000">
                <a:off x="3483720" y="4631400"/>
                <a:ext cx="136800" cy="185760"/>
              </a:xfrm>
              <a:custGeom>
                <a:avLst/>
                <a:gdLst/>
                <a:ahLst/>
                <a:rect l="l" t="t" r="r" b="b"/>
                <a:pathLst>
                  <a:path w="86" h="117">
                    <a:moveTo>
                      <a:pt x="43" y="0"/>
                    </a:moveTo>
                    <a:lnTo>
                      <a:pt x="86" y="117"/>
                    </a:lnTo>
                    <a:lnTo>
                      <a:pt x="0" y="11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72" name=""/>
            <p:cNvGrpSpPr/>
            <p:nvPr/>
          </p:nvGrpSpPr>
          <p:grpSpPr>
            <a:xfrm>
              <a:off x="4606200" y="5581440"/>
              <a:ext cx="456120" cy="306000"/>
              <a:chOff x="4606200" y="5581440"/>
              <a:chExt cx="456120" cy="306000"/>
            </a:xfrm>
          </p:grpSpPr>
          <p:sp>
            <p:nvSpPr>
              <p:cNvPr id="573" name=""/>
              <p:cNvSpPr/>
              <p:nvPr/>
            </p:nvSpPr>
            <p:spPr>
              <a:xfrm flipH="1" flipV="1">
                <a:off x="4641120" y="5639400"/>
                <a:ext cx="421200" cy="2480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4" name=""/>
              <p:cNvSpPr/>
              <p:nvPr/>
            </p:nvSpPr>
            <p:spPr>
              <a:xfrm rot="18021600">
                <a:off x="4652280" y="5594040"/>
                <a:ext cx="136440" cy="185760"/>
              </a:xfrm>
              <a:custGeom>
                <a:avLst/>
                <a:gdLst/>
                <a:ahLst/>
                <a:rect l="l" t="t" r="r" b="b"/>
                <a:pathLst>
                  <a:path w="86" h="117">
                    <a:moveTo>
                      <a:pt x="43" y="0"/>
                    </a:moveTo>
                    <a:lnTo>
                      <a:pt x="86" y="117"/>
                    </a:lnTo>
                    <a:lnTo>
                      <a:pt x="0" y="117"/>
                    </a:lnTo>
                    <a:lnTo>
                      <a:pt x="43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D278D-CFFF-4B45-95B5-D6D4147B48A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Radio PIM Mode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vent 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8710560" y="61419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" descr=""/>
          <p:cNvPicPr/>
          <p:nvPr/>
        </p:nvPicPr>
        <p:blipFill>
          <a:blip r:embed="rId1"/>
          <a:stretch/>
        </p:blipFill>
        <p:spPr>
          <a:xfrm>
            <a:off x="1255680" y="1109520"/>
            <a:ext cx="6985080" cy="5394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70911-0344-4BE9-934E-569367567E0C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TRS Goals in Creating the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Communications Architectur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46120" y="1218960"/>
            <a:ext cx="81662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21400" indent="-221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Government’s Goa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Greatly increased operational flexibility and interoperab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asy technology insertion and capability upgrades, 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d system acquisition and operation c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d supportability cost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To achieve these goals, the SCA is structured t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Provide for portability of applications across radio platfor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 algn="just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everage commercial standards to reduce development cost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Reduce development time of new waveforms through module re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d on evolving commercial frameworks and architectur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1400" indent="-221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haracteristics of the S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Developed by Industry with wide revie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tandardizes distributed deployment and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ssumes freedom to upgrade hardw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uilt on UML, CORBA, POSIX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54400" indent="-2214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Based on lightweight profiles to meet performance requirem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F145-DD6F-49E7-B534-4EA85AF7052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Radio PIM Mode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File Servi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8710560" y="61419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" descr=""/>
          <p:cNvPicPr/>
          <p:nvPr/>
        </p:nvPicPr>
        <p:blipFill>
          <a:blip r:embed="rId1"/>
          <a:stretch/>
        </p:blipFill>
        <p:spPr>
          <a:xfrm>
            <a:off x="2197080" y="1190520"/>
            <a:ext cx="6053040" cy="5370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9AF5-B867-4FA9-AF53-1040BB285C3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Radio PIM Mode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Log 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710560" y="61419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" descr=""/>
          <p:cNvPicPr/>
          <p:nvPr/>
        </p:nvPicPr>
        <p:blipFill>
          <a:blip r:embed="rId1"/>
          <a:stretch/>
        </p:blipFill>
        <p:spPr>
          <a:xfrm>
            <a:off x="2092320" y="1189080"/>
            <a:ext cx="4643280" cy="53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E8D4-07C6-485E-8A7D-703DB9D11D3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Radio PIM Model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Naming Servic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710560" y="61419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1909800" y="719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124000" y="1220760"/>
            <a:ext cx="5124600" cy="53024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2ECF-F640-40A1-B26A-1B4DB92CA3B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33520" y="21600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TRS Waveforms and SCA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Waveform-SCA%20Slide%20(As%20JPEG,%20No%20Text)" descr=""/>
          <p:cNvPicPr/>
          <p:nvPr/>
        </p:nvPicPr>
        <p:blipFill>
          <a:blip r:embed="rId1"/>
          <a:stretch/>
        </p:blipFill>
        <p:spPr>
          <a:xfrm>
            <a:off x="2762280" y="2625840"/>
            <a:ext cx="6334200" cy="4047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08" name=""/>
          <p:cNvSpPr/>
          <p:nvPr/>
        </p:nvSpPr>
        <p:spPr>
          <a:xfrm>
            <a:off x="4529160" y="2768760"/>
            <a:ext cx="4614840" cy="3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Arial"/>
              </a:rPr>
              <a:t>JTRS SCA and Waveforms Enab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4222800" y="3124080"/>
            <a:ext cx="4921200" cy="185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28600" indent="-228600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Porting of waveforms across radio plat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Interoperability among radi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Use/reuse of common software across wavefor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Scalability in number of channels, and across form fac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524"/>
              </a:spcBef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cc"/>
                </a:solidFill>
                <a:latin typeface="Arial"/>
              </a:rPr>
              <a:t>Use of commercial product lines, if commercially adopt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Slide1" descr=""/>
          <p:cNvPicPr/>
          <p:nvPr/>
        </p:nvPicPr>
        <p:blipFill>
          <a:blip r:embed="rId2"/>
          <a:stretch/>
        </p:blipFill>
        <p:spPr>
          <a:xfrm>
            <a:off x="33480" y="1106640"/>
            <a:ext cx="4159080" cy="3119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111" name=""/>
          <p:cNvSpPr/>
          <p:nvPr/>
        </p:nvSpPr>
        <p:spPr>
          <a:xfrm>
            <a:off x="4386240" y="1222200"/>
            <a:ext cx="4757760" cy="1418040"/>
          </a:xfrm>
          <a:prstGeom prst="rect">
            <a:avLst/>
          </a:prstGeom>
          <a:solidFill>
            <a:srgbClr val="eaeaea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ware Communications Architecture (S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Buil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WRADIO Domain Special Interest Group is working to Establish SCA as OMG Standa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7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en-US" sz="1600" spc="-1" strike="noStrike">
                <a:solidFill>
                  <a:srgbClr val="660066"/>
                </a:solidFill>
                <a:latin typeface="Arial"/>
              </a:rPr>
              <a:t>RFP pha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1203120" y="3734640"/>
            <a:ext cx="2133720" cy="2284200"/>
            <a:chOff x="1203120" y="3734640"/>
            <a:chExt cx="2133720" cy="2284200"/>
          </a:xfrm>
        </p:grpSpPr>
        <p:sp>
          <p:nvSpPr>
            <p:cNvPr id="113" name=""/>
            <p:cNvSpPr/>
            <p:nvPr/>
          </p:nvSpPr>
          <p:spPr>
            <a:xfrm rot="19131000">
              <a:off x="1730160" y="3844800"/>
              <a:ext cx="986400" cy="1973160"/>
            </a:xfrm>
            <a:custGeom>
              <a:avLst/>
              <a:gdLst/>
              <a:ahLst/>
              <a:rect l="l" t="t" r="r" b="b"/>
              <a:pathLst>
                <a:path w="1665" h="3034">
                  <a:moveTo>
                    <a:pt x="865" y="55"/>
                  </a:moveTo>
                  <a:lnTo>
                    <a:pt x="610" y="401"/>
                  </a:lnTo>
                  <a:lnTo>
                    <a:pt x="444" y="812"/>
                  </a:lnTo>
                  <a:lnTo>
                    <a:pt x="355" y="1300"/>
                  </a:lnTo>
                  <a:lnTo>
                    <a:pt x="378" y="1766"/>
                  </a:lnTo>
                  <a:lnTo>
                    <a:pt x="0" y="2000"/>
                  </a:lnTo>
                  <a:lnTo>
                    <a:pt x="1098" y="3034"/>
                  </a:lnTo>
                  <a:lnTo>
                    <a:pt x="1465" y="1690"/>
                  </a:lnTo>
                  <a:lnTo>
                    <a:pt x="1098" y="1722"/>
                  </a:lnTo>
                  <a:lnTo>
                    <a:pt x="1142" y="1355"/>
                  </a:lnTo>
                  <a:lnTo>
                    <a:pt x="1298" y="1011"/>
                  </a:lnTo>
                  <a:lnTo>
                    <a:pt x="1665" y="578"/>
                  </a:lnTo>
                  <a:lnTo>
                    <a:pt x="954" y="0"/>
                  </a:lnTo>
                  <a:lnTo>
                    <a:pt x="865" y="55"/>
                  </a:lnTo>
                  <a:lnTo>
                    <a:pt x="865" y="5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19131000">
              <a:off x="1872360" y="3936600"/>
              <a:ext cx="940320" cy="1944720"/>
            </a:xfrm>
            <a:custGeom>
              <a:avLst/>
              <a:gdLst/>
              <a:ahLst/>
              <a:rect l="l" t="t" r="r" b="b"/>
              <a:pathLst>
                <a:path w="1585" h="2988">
                  <a:moveTo>
                    <a:pt x="753" y="110"/>
                  </a:moveTo>
                  <a:lnTo>
                    <a:pt x="610" y="356"/>
                  </a:lnTo>
                  <a:lnTo>
                    <a:pt x="443" y="768"/>
                  </a:lnTo>
                  <a:lnTo>
                    <a:pt x="355" y="1257"/>
                  </a:lnTo>
                  <a:lnTo>
                    <a:pt x="378" y="1722"/>
                  </a:lnTo>
                  <a:lnTo>
                    <a:pt x="0" y="1956"/>
                  </a:lnTo>
                  <a:lnTo>
                    <a:pt x="1099" y="2988"/>
                  </a:lnTo>
                  <a:lnTo>
                    <a:pt x="1466" y="1644"/>
                  </a:lnTo>
                  <a:lnTo>
                    <a:pt x="1099" y="1679"/>
                  </a:lnTo>
                  <a:lnTo>
                    <a:pt x="1142" y="1312"/>
                  </a:lnTo>
                  <a:lnTo>
                    <a:pt x="1298" y="968"/>
                  </a:lnTo>
                  <a:lnTo>
                    <a:pt x="1585" y="523"/>
                  </a:lnTo>
                  <a:lnTo>
                    <a:pt x="831" y="0"/>
                  </a:lnTo>
                  <a:lnTo>
                    <a:pt x="753" y="110"/>
                  </a:lnTo>
                  <a:lnTo>
                    <a:pt x="753" y="110"/>
                  </a:lnTo>
                  <a:close/>
                </a:path>
              </a:pathLst>
            </a:custGeom>
            <a:solidFill>
              <a:srgbClr val="ff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rot="19131000">
              <a:off x="1868760" y="3919320"/>
              <a:ext cx="854640" cy="2074680"/>
            </a:xfrm>
            <a:custGeom>
              <a:avLst/>
              <a:gdLst/>
              <a:ahLst/>
              <a:rect l="l" t="t" r="r" b="b"/>
              <a:pathLst>
                <a:path w="1441" h="3190">
                  <a:moveTo>
                    <a:pt x="1053" y="3190"/>
                  </a:moveTo>
                  <a:lnTo>
                    <a:pt x="21" y="2144"/>
                  </a:lnTo>
                  <a:lnTo>
                    <a:pt x="0" y="1910"/>
                  </a:lnTo>
                  <a:lnTo>
                    <a:pt x="342" y="1789"/>
                  </a:lnTo>
                  <a:lnTo>
                    <a:pt x="298" y="1245"/>
                  </a:lnTo>
                  <a:lnTo>
                    <a:pt x="388" y="789"/>
                  </a:lnTo>
                  <a:lnTo>
                    <a:pt x="542" y="422"/>
                  </a:lnTo>
                  <a:lnTo>
                    <a:pt x="787" y="112"/>
                  </a:lnTo>
                  <a:lnTo>
                    <a:pt x="932" y="0"/>
                  </a:lnTo>
                  <a:lnTo>
                    <a:pt x="941" y="67"/>
                  </a:lnTo>
                  <a:lnTo>
                    <a:pt x="732" y="323"/>
                  </a:lnTo>
                  <a:lnTo>
                    <a:pt x="553" y="757"/>
                  </a:lnTo>
                  <a:lnTo>
                    <a:pt x="443" y="1266"/>
                  </a:lnTo>
                  <a:lnTo>
                    <a:pt x="420" y="1644"/>
                  </a:lnTo>
                  <a:lnTo>
                    <a:pt x="420" y="1789"/>
                  </a:lnTo>
                  <a:lnTo>
                    <a:pt x="65" y="2000"/>
                  </a:lnTo>
                  <a:lnTo>
                    <a:pt x="1076" y="2967"/>
                  </a:lnTo>
                  <a:lnTo>
                    <a:pt x="1441" y="1777"/>
                  </a:lnTo>
                  <a:lnTo>
                    <a:pt x="1175" y="3022"/>
                  </a:lnTo>
                  <a:lnTo>
                    <a:pt x="1053" y="3190"/>
                  </a:lnTo>
                  <a:lnTo>
                    <a:pt x="1053" y="319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9131000">
              <a:off x="2129760" y="3746160"/>
              <a:ext cx="480240" cy="1185480"/>
            </a:xfrm>
            <a:custGeom>
              <a:avLst/>
              <a:gdLst/>
              <a:ahLst/>
              <a:rect l="l" t="t" r="r" b="b"/>
              <a:pathLst>
                <a:path w="810" h="1823">
                  <a:moveTo>
                    <a:pt x="12" y="1823"/>
                  </a:moveTo>
                  <a:lnTo>
                    <a:pt x="466" y="1745"/>
                  </a:lnTo>
                  <a:lnTo>
                    <a:pt x="578" y="1623"/>
                  </a:lnTo>
                  <a:lnTo>
                    <a:pt x="234" y="1667"/>
                  </a:lnTo>
                  <a:lnTo>
                    <a:pt x="255" y="1410"/>
                  </a:lnTo>
                  <a:lnTo>
                    <a:pt x="422" y="1045"/>
                  </a:lnTo>
                  <a:lnTo>
                    <a:pt x="633" y="757"/>
                  </a:lnTo>
                  <a:lnTo>
                    <a:pt x="810" y="566"/>
                  </a:lnTo>
                  <a:lnTo>
                    <a:pt x="12" y="0"/>
                  </a:lnTo>
                  <a:lnTo>
                    <a:pt x="44" y="145"/>
                  </a:lnTo>
                  <a:lnTo>
                    <a:pt x="356" y="378"/>
                  </a:lnTo>
                  <a:lnTo>
                    <a:pt x="567" y="612"/>
                  </a:lnTo>
                  <a:lnTo>
                    <a:pt x="301" y="933"/>
                  </a:lnTo>
                  <a:lnTo>
                    <a:pt x="44" y="1344"/>
                  </a:lnTo>
                  <a:lnTo>
                    <a:pt x="0" y="1633"/>
                  </a:lnTo>
                  <a:lnTo>
                    <a:pt x="12" y="1823"/>
                  </a:lnTo>
                  <a:lnTo>
                    <a:pt x="12" y="18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68400" y="4387680"/>
            <a:ext cx="18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 Waveform is implemented as a collection of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Component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660066"/>
                </a:solidFill>
                <a:latin typeface="Arial"/>
              </a:rPr>
              <a:t>Distributed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ver Processing Uni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849AD-415D-491B-84F0-75B07B3755FC}" type="slidenum">
              <a:t>4</a:t>
            </a:fld>
          </a:p>
        </p:txBody>
      </p:sp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 Core Framework = Standard Interfac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223920" y="1020600"/>
            <a:ext cx="8618400" cy="5532120"/>
            <a:chOff x="223920" y="1020600"/>
            <a:chExt cx="8618400" cy="5532120"/>
          </a:xfrm>
        </p:grpSpPr>
        <p:sp>
          <p:nvSpPr>
            <p:cNvPr id="120" name=""/>
            <p:cNvSpPr/>
            <p:nvPr/>
          </p:nvSpPr>
          <p:spPr>
            <a:xfrm>
              <a:off x="1947960" y="5173560"/>
              <a:ext cx="914400" cy="914400"/>
            </a:xfrm>
            <a:prstGeom prst="octagon">
              <a:avLst>
                <a:gd name="adj" fmla="val 2928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3920" y="3718080"/>
              <a:ext cx="16365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Multi-processor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nternal-device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Radio Set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" name=""/>
            <p:cNvGrpSpPr/>
            <p:nvPr/>
          </p:nvGrpSpPr>
          <p:grpSpPr>
            <a:xfrm>
              <a:off x="7149960" y="2119320"/>
              <a:ext cx="1082520" cy="952560"/>
              <a:chOff x="7149960" y="2119320"/>
              <a:chExt cx="1082520" cy="952560"/>
            </a:xfrm>
          </p:grpSpPr>
          <p:pic>
            <p:nvPicPr>
              <p:cNvPr id="123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7149960" y="2124360"/>
                <a:ext cx="1082520" cy="9475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24" name=""/>
              <p:cNvSpPr/>
              <p:nvPr/>
            </p:nvSpPr>
            <p:spPr>
              <a:xfrm>
                <a:off x="7225920" y="2119320"/>
                <a:ext cx="94608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Component Executables</a:t>
                </a:r>
                <a:br>
                  <a:rPr sz="1000"/>
                </a:br>
                <a:r>
                  <a:rPr b="1" lang="en-US" sz="1000" spc="-1" strike="noStrike">
                    <a:solidFill>
                      <a:srgbClr val="000000"/>
                    </a:solidFill>
                    <a:latin typeface="Times New Roman"/>
                  </a:rPr>
                  <a:t>and Profile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aphicFrame>
          <p:nvGraphicFramePr>
            <p:cNvPr id="125" name=""/>
            <p:cNvGraphicFramePr/>
            <p:nvPr/>
          </p:nvGraphicFramePr>
          <p:xfrm>
            <a:off x="784080" y="1870200"/>
            <a:ext cx="959040" cy="9014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26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784080" y="1870200"/>
                      <a:ext cx="959040" cy="901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27" name=""/>
            <p:cNvGrpSpPr/>
            <p:nvPr/>
          </p:nvGrpSpPr>
          <p:grpSpPr>
            <a:xfrm>
              <a:off x="3038400" y="1020600"/>
              <a:ext cx="2833560" cy="1246320"/>
              <a:chOff x="3038400" y="1020600"/>
              <a:chExt cx="2833560" cy="1246320"/>
            </a:xfrm>
          </p:grpSpPr>
          <p:grpSp>
            <p:nvGrpSpPr>
              <p:cNvPr id="128" name=""/>
              <p:cNvGrpSpPr/>
              <p:nvPr/>
            </p:nvGrpSpPr>
            <p:grpSpPr>
              <a:xfrm>
                <a:off x="3038400" y="1374840"/>
                <a:ext cx="2833560" cy="892080"/>
                <a:chOff x="3038400" y="1374840"/>
                <a:chExt cx="2833560" cy="892080"/>
              </a:xfrm>
            </p:grpSpPr>
            <p:grpSp>
              <p:nvGrpSpPr>
                <p:cNvPr id="129" name=""/>
                <p:cNvGrpSpPr/>
                <p:nvPr/>
              </p:nvGrpSpPr>
              <p:grpSpPr>
                <a:xfrm>
                  <a:off x="3387600" y="1500120"/>
                  <a:ext cx="1009440" cy="229680"/>
                  <a:chOff x="3387600" y="1500120"/>
                  <a:chExt cx="1009440" cy="22968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3387600" y="1659240"/>
                    <a:ext cx="128880" cy="70560"/>
                  </a:xfrm>
                  <a:prstGeom prst="rect">
                    <a:avLst/>
                  </a:prstGeom>
                  <a:solidFill>
                    <a:srgbClr val="8cf4ea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3739680" y="1659240"/>
                    <a:ext cx="128880" cy="70560"/>
                  </a:xfrm>
                  <a:prstGeom prst="rect">
                    <a:avLst/>
                  </a:prstGeom>
                  <a:solidFill>
                    <a:srgbClr val="8cf4ea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"/>
                  <p:cNvSpPr/>
                  <p:nvPr/>
                </p:nvSpPr>
                <p:spPr>
                  <a:xfrm>
                    <a:off x="3916080" y="1659240"/>
                    <a:ext cx="128880" cy="70560"/>
                  </a:xfrm>
                  <a:prstGeom prst="rect">
                    <a:avLst/>
                  </a:prstGeom>
                  <a:solidFill>
                    <a:srgbClr val="8cf4ea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"/>
                  <p:cNvSpPr/>
                  <p:nvPr/>
                </p:nvSpPr>
                <p:spPr>
                  <a:xfrm>
                    <a:off x="4268160" y="1659240"/>
                    <a:ext cx="128880" cy="70560"/>
                  </a:xfrm>
                  <a:prstGeom prst="rect">
                    <a:avLst/>
                  </a:prstGeom>
                  <a:solidFill>
                    <a:srgbClr val="8cf4ea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"/>
                  <p:cNvSpPr/>
                  <p:nvPr/>
                </p:nvSpPr>
                <p:spPr>
                  <a:xfrm>
                    <a:off x="3774960" y="1500120"/>
                    <a:ext cx="199440" cy="70560"/>
                  </a:xfrm>
                  <a:prstGeom prst="rect">
                    <a:avLst/>
                  </a:prstGeom>
                  <a:solidFill>
                    <a:srgbClr val="8cf4ea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"/>
                  <p:cNvSpPr/>
                  <p:nvPr/>
                </p:nvSpPr>
                <p:spPr>
                  <a:xfrm>
                    <a:off x="3452040" y="1628280"/>
                    <a:ext cx="88056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3452040" y="1628280"/>
                    <a:ext cx="0" cy="26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3804120" y="1628280"/>
                    <a:ext cx="0" cy="26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"/>
                  <p:cNvSpPr/>
                  <p:nvPr/>
                </p:nvSpPr>
                <p:spPr>
                  <a:xfrm>
                    <a:off x="3980520" y="1628280"/>
                    <a:ext cx="0" cy="26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"/>
                  <p:cNvSpPr/>
                  <p:nvPr/>
                </p:nvSpPr>
                <p:spPr>
                  <a:xfrm>
                    <a:off x="4332960" y="1628280"/>
                    <a:ext cx="0" cy="26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"/>
                  <p:cNvSpPr/>
                  <p:nvPr/>
                </p:nvSpPr>
                <p:spPr>
                  <a:xfrm>
                    <a:off x="4092120" y="1659240"/>
                    <a:ext cx="128880" cy="70560"/>
                  </a:xfrm>
                  <a:prstGeom prst="rect">
                    <a:avLst/>
                  </a:prstGeom>
                  <a:solidFill>
                    <a:srgbClr val="8cf4ea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"/>
                  <p:cNvSpPr/>
                  <p:nvPr/>
                </p:nvSpPr>
                <p:spPr>
                  <a:xfrm>
                    <a:off x="4156560" y="1628280"/>
                    <a:ext cx="0" cy="26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"/>
                  <p:cNvSpPr/>
                  <p:nvPr/>
                </p:nvSpPr>
                <p:spPr>
                  <a:xfrm>
                    <a:off x="3563640" y="1659240"/>
                    <a:ext cx="128880" cy="70560"/>
                  </a:xfrm>
                  <a:prstGeom prst="rect">
                    <a:avLst/>
                  </a:prstGeom>
                  <a:solidFill>
                    <a:srgbClr val="8cf4ea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"/>
                  <p:cNvSpPr/>
                  <p:nvPr/>
                </p:nvSpPr>
                <p:spPr>
                  <a:xfrm>
                    <a:off x="3628080" y="1628280"/>
                    <a:ext cx="0" cy="26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"/>
                  <p:cNvSpPr/>
                  <p:nvPr/>
                </p:nvSpPr>
                <p:spPr>
                  <a:xfrm>
                    <a:off x="3874680" y="1575000"/>
                    <a:ext cx="0" cy="52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5" name=""/>
                <p:cNvSpPr/>
                <p:nvPr/>
              </p:nvSpPr>
              <p:spPr>
                <a:xfrm>
                  <a:off x="4144680" y="1508040"/>
                  <a:ext cx="1616400" cy="49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mponents Prof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" name=""/>
                <p:cNvGrpSpPr/>
                <p:nvPr/>
              </p:nvGrpSpPr>
              <p:grpSpPr>
                <a:xfrm>
                  <a:off x="3417840" y="1776240"/>
                  <a:ext cx="1009080" cy="229680"/>
                  <a:chOff x="3417840" y="1776240"/>
                  <a:chExt cx="1009080" cy="22968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3417840" y="1935360"/>
                    <a:ext cx="128880" cy="70560"/>
                  </a:xfrm>
                  <a:prstGeom prst="rect">
                    <a:avLst/>
                  </a:prstGeom>
                  <a:solidFill>
                    <a:srgbClr val="9900cc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3769920" y="1935360"/>
                    <a:ext cx="128880" cy="70560"/>
                  </a:xfrm>
                  <a:prstGeom prst="rect">
                    <a:avLst/>
                  </a:prstGeom>
                  <a:solidFill>
                    <a:srgbClr val="9900cc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"/>
                  <p:cNvSpPr/>
                  <p:nvPr/>
                </p:nvSpPr>
                <p:spPr>
                  <a:xfrm>
                    <a:off x="3945960" y="1935360"/>
                    <a:ext cx="128880" cy="70560"/>
                  </a:xfrm>
                  <a:prstGeom prst="rect">
                    <a:avLst/>
                  </a:prstGeom>
                  <a:solidFill>
                    <a:srgbClr val="9900cc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" name=""/>
                  <p:cNvSpPr/>
                  <p:nvPr/>
                </p:nvSpPr>
                <p:spPr>
                  <a:xfrm>
                    <a:off x="4298040" y="1935360"/>
                    <a:ext cx="128880" cy="70560"/>
                  </a:xfrm>
                  <a:prstGeom prst="rect">
                    <a:avLst/>
                  </a:prstGeom>
                  <a:solidFill>
                    <a:srgbClr val="9900cc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3805200" y="1776240"/>
                    <a:ext cx="199440" cy="70560"/>
                  </a:xfrm>
                  <a:prstGeom prst="rect">
                    <a:avLst/>
                  </a:prstGeom>
                  <a:solidFill>
                    <a:srgbClr val="9900cc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3482280" y="1904400"/>
                    <a:ext cx="88020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"/>
                  <p:cNvSpPr/>
                  <p:nvPr/>
                </p:nvSpPr>
                <p:spPr>
                  <a:xfrm>
                    <a:off x="3482280" y="1904400"/>
                    <a:ext cx="0" cy="26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"/>
                  <p:cNvSpPr/>
                  <p:nvPr/>
                </p:nvSpPr>
                <p:spPr>
                  <a:xfrm>
                    <a:off x="3834360" y="1904400"/>
                    <a:ext cx="0" cy="26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" name=""/>
                  <p:cNvSpPr/>
                  <p:nvPr/>
                </p:nvSpPr>
                <p:spPr>
                  <a:xfrm>
                    <a:off x="4010760" y="1904400"/>
                    <a:ext cx="0" cy="26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"/>
                  <p:cNvSpPr/>
                  <p:nvPr/>
                </p:nvSpPr>
                <p:spPr>
                  <a:xfrm>
                    <a:off x="4362840" y="1904400"/>
                    <a:ext cx="0" cy="26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"/>
                  <p:cNvSpPr/>
                  <p:nvPr/>
                </p:nvSpPr>
                <p:spPr>
                  <a:xfrm>
                    <a:off x="4122000" y="1935360"/>
                    <a:ext cx="128880" cy="70560"/>
                  </a:xfrm>
                  <a:prstGeom prst="rect">
                    <a:avLst/>
                  </a:prstGeom>
                  <a:solidFill>
                    <a:srgbClr val="9900cc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" name=""/>
                  <p:cNvSpPr/>
                  <p:nvPr/>
                </p:nvSpPr>
                <p:spPr>
                  <a:xfrm>
                    <a:off x="4186800" y="1904400"/>
                    <a:ext cx="0" cy="26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" name=""/>
                  <p:cNvSpPr/>
                  <p:nvPr/>
                </p:nvSpPr>
                <p:spPr>
                  <a:xfrm>
                    <a:off x="3593880" y="1935360"/>
                    <a:ext cx="128880" cy="70560"/>
                  </a:xfrm>
                  <a:prstGeom prst="rect">
                    <a:avLst/>
                  </a:prstGeom>
                  <a:solidFill>
                    <a:srgbClr val="9900cc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3760" bIns="237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"/>
                  <p:cNvSpPr/>
                  <p:nvPr/>
                </p:nvSpPr>
                <p:spPr>
                  <a:xfrm>
                    <a:off x="3658320" y="1904400"/>
                    <a:ext cx="0" cy="262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520" bIns="-205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" name=""/>
                  <p:cNvSpPr/>
                  <p:nvPr/>
                </p:nvSpPr>
                <p:spPr>
                  <a:xfrm>
                    <a:off x="3904920" y="1851120"/>
                    <a:ext cx="0" cy="5292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6120" bIns="61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2" name=""/>
                <p:cNvSpPr/>
                <p:nvPr/>
              </p:nvSpPr>
              <p:spPr>
                <a:xfrm>
                  <a:off x="3038400" y="1374840"/>
                  <a:ext cx="2833560" cy="89208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3" name=""/>
              <p:cNvSpPr/>
              <p:nvPr/>
            </p:nvSpPr>
            <p:spPr>
              <a:xfrm>
                <a:off x="3670200" y="1020600"/>
                <a:ext cx="1638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000000"/>
                    </a:solidFill>
                    <a:latin typeface="Times New Roman"/>
                  </a:rPr>
                  <a:t>SW Assembly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657360" y="4699080"/>
              <a:ext cx="1927080" cy="996840"/>
              <a:chOff x="657360" y="4699080"/>
              <a:chExt cx="1927080" cy="996840"/>
            </a:xfrm>
          </p:grpSpPr>
          <p:pic>
            <p:nvPicPr>
              <p:cNvPr id="165" name="JTRS%202C%20Concept_Rev1" descr=""/>
              <p:cNvPicPr/>
              <p:nvPr/>
            </p:nvPicPr>
            <p:blipFill>
              <a:blip r:embed="rId4"/>
              <a:stretch/>
            </p:blipFill>
            <p:spPr>
              <a:xfrm>
                <a:off x="657360" y="4699080"/>
                <a:ext cx="1927080" cy="99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6" name=""/>
              <p:cNvSpPr/>
              <p:nvPr/>
            </p:nvSpPr>
            <p:spPr>
              <a:xfrm>
                <a:off x="1163880" y="4857480"/>
                <a:ext cx="135000" cy="120240"/>
              </a:xfrm>
              <a:prstGeom prst="octagon">
                <a:avLst>
                  <a:gd name="adj" fmla="val 29287"/>
                </a:avLst>
              </a:prstGeom>
              <a:solidFill>
                <a:srgbClr val="cc33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473480" y="4808520"/>
                <a:ext cx="133200" cy="120240"/>
              </a:xfrm>
              <a:prstGeom prst="octagon">
                <a:avLst>
                  <a:gd name="adj" fmla="val 29287"/>
                </a:avLst>
              </a:prstGeom>
              <a:solidFill>
                <a:srgbClr val="cc33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711440" y="4908240"/>
                <a:ext cx="133560" cy="122040"/>
              </a:xfrm>
              <a:prstGeom prst="octagon">
                <a:avLst>
                  <a:gd name="adj" fmla="val 29287"/>
                </a:avLst>
              </a:prstGeom>
              <a:solidFill>
                <a:srgbClr val="cc33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129040" y="4836960"/>
                <a:ext cx="133200" cy="120240"/>
              </a:xfrm>
              <a:prstGeom prst="octagon">
                <a:avLst>
                  <a:gd name="adj" fmla="val 29287"/>
                </a:avLst>
              </a:prstGeom>
              <a:solidFill>
                <a:srgbClr val="cc33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160" bIns="381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0" name=""/>
            <p:cNvSpPr/>
            <p:nvPr/>
          </p:nvSpPr>
          <p:spPr>
            <a:xfrm>
              <a:off x="2529000" y="3716280"/>
              <a:ext cx="260280" cy="1987560"/>
            </a:xfrm>
            <a:custGeom>
              <a:avLst/>
              <a:gdLst>
                <a:gd name="textAreaLeft" fmla="*/ 0 w 260280"/>
                <a:gd name="textAreaRight" fmla="*/ 93960 w 260280"/>
                <a:gd name="textAreaTop" fmla="*/ 51840 h 1987560"/>
                <a:gd name="textAreaBottom" fmla="*/ 1935720 h 1987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1" name=""/>
            <p:cNvGrpSpPr/>
            <p:nvPr/>
          </p:nvGrpSpPr>
          <p:grpSpPr>
            <a:xfrm>
              <a:off x="1757520" y="3678120"/>
              <a:ext cx="596880" cy="1044720"/>
              <a:chOff x="1757520" y="3678120"/>
              <a:chExt cx="596880" cy="1044720"/>
            </a:xfrm>
          </p:grpSpPr>
          <p:graphicFrame>
            <p:nvGraphicFramePr>
              <p:cNvPr id="172" name=""/>
              <p:cNvGraphicFramePr/>
              <p:nvPr/>
            </p:nvGraphicFramePr>
            <p:xfrm>
              <a:off x="1757520" y="3678120"/>
              <a:ext cx="596880" cy="104472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3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57520" y="3678120"/>
                        <a:ext cx="596880" cy="104472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74" name=""/>
              <p:cNvSpPr/>
              <p:nvPr/>
            </p:nvSpPr>
            <p:spPr>
              <a:xfrm>
                <a:off x="1935360" y="4467240"/>
                <a:ext cx="109800" cy="76320"/>
              </a:xfrm>
              <a:prstGeom prst="octagon">
                <a:avLst>
                  <a:gd name="adj" fmla="val 29287"/>
                </a:avLst>
              </a:prstGeom>
              <a:solidFill>
                <a:srgbClr val="cc3300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7200" bIns="72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5" name=""/>
            <p:cNvSpPr/>
            <p:nvPr/>
          </p:nvSpPr>
          <p:spPr>
            <a:xfrm>
              <a:off x="5535720" y="3646440"/>
              <a:ext cx="33066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mmon Operating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Environment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Core Framewor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9560400">
              <a:off x="1890000" y="1472760"/>
              <a:ext cx="1219320" cy="293760"/>
            </a:xfrm>
            <a:prstGeom prst="leftArrow">
              <a:avLst>
                <a:gd name="adj1" fmla="val 50000"/>
                <a:gd name="adj2" fmla="val 10376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20127600">
              <a:off x="2661840" y="4195440"/>
              <a:ext cx="1219320" cy="293760"/>
            </a:xfrm>
            <a:prstGeom prst="leftArrow">
              <a:avLst>
                <a:gd name="adj1" fmla="val 50000"/>
                <a:gd name="adj2" fmla="val 10376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846520" y="5176800"/>
              <a:ext cx="1298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Supports Portabilit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811600" y="3489480"/>
              <a:ext cx="1241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istributed Deployme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748560" y="4757760"/>
              <a:ext cx="136512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scribes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vailable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Hardwa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rot="12093600">
              <a:off x="6013080" y="1492200"/>
              <a:ext cx="1219320" cy="293760"/>
            </a:xfrm>
            <a:prstGeom prst="leftArrow">
              <a:avLst>
                <a:gd name="adj1" fmla="val 50000"/>
                <a:gd name="adj2" fmla="val 10376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 rot="19333800">
              <a:off x="5857920" y="3176280"/>
              <a:ext cx="1219320" cy="293760"/>
            </a:xfrm>
            <a:prstGeom prst="leftArrow">
              <a:avLst>
                <a:gd name="adj1" fmla="val 50000"/>
                <a:gd name="adj2" fmla="val 103768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994280" y="2874960"/>
              <a:ext cx="135396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utomated Installatio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590840" y="2063880"/>
              <a:ext cx="2098440" cy="1067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Developer provides SCA-Compliant SW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Profile Description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699160" y="1844640"/>
              <a:ext cx="14889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Assembly can include Alternativ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3463920" y="3460680"/>
              <a:ext cx="3182760" cy="2268360"/>
              <a:chOff x="3463920" y="3460680"/>
              <a:chExt cx="3182760" cy="2268360"/>
            </a:xfrm>
          </p:grpSpPr>
          <p:sp>
            <p:nvSpPr>
              <p:cNvPr id="187" name=""/>
              <p:cNvSpPr/>
              <p:nvPr/>
            </p:nvSpPr>
            <p:spPr>
              <a:xfrm>
                <a:off x="3463920" y="3697200"/>
                <a:ext cx="3182760" cy="2031840"/>
              </a:xfrm>
              <a:prstGeom prst="hexagon">
                <a:avLst>
                  <a:gd name="adj" fmla="val 39161"/>
                  <a:gd name="vf" fmla="val 115470"/>
                </a:avLst>
              </a:prstGeom>
              <a:solidFill>
                <a:srgbClr val="ccecff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" name=""/>
              <p:cNvGrpSpPr/>
              <p:nvPr/>
            </p:nvGrpSpPr>
            <p:grpSpPr>
              <a:xfrm>
                <a:off x="5425920" y="4065480"/>
                <a:ext cx="779400" cy="812880"/>
                <a:chOff x="5425920" y="4065480"/>
                <a:chExt cx="779400" cy="8128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514840" y="4065480"/>
                  <a:ext cx="611280" cy="812880"/>
                </a:xfrm>
                <a:custGeom>
                  <a:avLst/>
                  <a:gdLst>
                    <a:gd name="textAreaLeft" fmla="*/ 29520 w 611280"/>
                    <a:gd name="textAreaRight" fmla="*/ 581760 w 611280"/>
                    <a:gd name="textAreaTop" fmla="*/ 29520 h 812880"/>
                    <a:gd name="textAreaBottom" fmla="*/ 783360 h 812880"/>
                  </a:gdLst>
                  <a:ahLst/>
                  <a:rect l="textAreaLeft" t="textAreaTop" r="textAreaRight" b="textAreaBottom"/>
                  <a:pathLst>
                    <a:path w="21600" h="28719">
                      <a:moveTo>
                        <a:pt x="3600" y="0"/>
                      </a:moveTo>
                      <a:arcTo wR="3600" hR="3600" stAng="16200000" swAng="-5400000"/>
                      <a:lnTo>
                        <a:pt x="0" y="25119"/>
                      </a:lnTo>
                      <a:arcTo wR="3600" hR="3600" stAng="10800000" swAng="-5400000"/>
                      <a:lnTo>
                        <a:pt x="18000" y="28719"/>
                      </a:lnTo>
                      <a:arcTo wR="3600" hR="3600" stAng="5400000" swAng="-5400000"/>
                      <a:lnTo>
                        <a:pt x="21600" y="3600"/>
                      </a:lnTo>
                      <a:arcTo wR="3600" hR="3600" stAng="0" swAng="-5400000"/>
                      <a:close/>
                    </a:path>
                  </a:pathLst>
                </a:custGeom>
                <a:solidFill>
                  <a:srgbClr val="ff99cc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5425920" y="4159080"/>
                  <a:ext cx="7794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omain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Mgr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1" name=""/>
              <p:cNvGrpSpPr/>
              <p:nvPr/>
            </p:nvGrpSpPr>
            <p:grpSpPr>
              <a:xfrm>
                <a:off x="3965400" y="3911400"/>
                <a:ext cx="1352160" cy="625320"/>
                <a:chOff x="3965400" y="3911400"/>
                <a:chExt cx="1352160" cy="625320"/>
              </a:xfrm>
            </p:grpSpPr>
            <p:sp>
              <p:nvSpPr>
                <p:cNvPr id="192" name=""/>
                <p:cNvSpPr/>
                <p:nvPr/>
              </p:nvSpPr>
              <p:spPr>
                <a:xfrm>
                  <a:off x="4403520" y="4097160"/>
                  <a:ext cx="914040" cy="439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cc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4295520" y="4000320"/>
                  <a:ext cx="914040" cy="439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cc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4198680" y="3925800"/>
                  <a:ext cx="914040" cy="43956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ff99cc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3965400" y="3911400"/>
                  <a:ext cx="134280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Application</a:t>
                  </a:r>
                  <a:br>
                    <a:rPr sz="1200"/>
                  </a:br>
                  <a:r>
                    <a:rPr b="1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Factori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4606920" y="4682880"/>
                <a:ext cx="930960" cy="666720"/>
                <a:chOff x="4606920" y="4682880"/>
                <a:chExt cx="930960" cy="666720"/>
              </a:xfrm>
            </p:grpSpPr>
            <p:sp>
              <p:nvSpPr>
                <p:cNvPr id="197" name=""/>
                <p:cNvSpPr/>
                <p:nvPr/>
              </p:nvSpPr>
              <p:spPr>
                <a:xfrm>
                  <a:off x="4606920" y="4910040"/>
                  <a:ext cx="734760" cy="439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cc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676400" y="4790880"/>
                  <a:ext cx="734760" cy="439560"/>
                </a:xfrm>
                <a:prstGeom prst="roundRect">
                  <a:avLst>
                    <a:gd name="adj" fmla="val 50000"/>
                  </a:avLst>
                </a:prstGeom>
                <a:solidFill>
                  <a:srgbClr val="ccccff"/>
                </a:solidFill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99" name=""/>
                <p:cNvGrpSpPr/>
                <p:nvPr/>
              </p:nvGrpSpPr>
              <p:grpSpPr>
                <a:xfrm>
                  <a:off x="4757400" y="4682880"/>
                  <a:ext cx="780480" cy="461880"/>
                  <a:chOff x="4757400" y="4682880"/>
                  <a:chExt cx="780480" cy="461880"/>
                </a:xfrm>
              </p:grpSpPr>
              <p:sp>
                <p:nvSpPr>
                  <p:cNvPr id="200" name=""/>
                  <p:cNvSpPr/>
                  <p:nvPr/>
                </p:nvSpPr>
                <p:spPr>
                  <a:xfrm>
                    <a:off x="4757400" y="4705200"/>
                    <a:ext cx="734760" cy="439560"/>
                  </a:xfrm>
                  <a:prstGeom prst="roundRect">
                    <a:avLst>
                      <a:gd name="adj" fmla="val 50000"/>
                    </a:avLst>
                  </a:prstGeom>
                  <a:solidFill>
                    <a:srgbClr val="ccccff"/>
                  </a:solidFill>
                  <a:ln w="381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1" name=""/>
                  <p:cNvSpPr/>
                  <p:nvPr/>
                </p:nvSpPr>
                <p:spPr>
                  <a:xfrm>
                    <a:off x="4758480" y="4682880"/>
                    <a:ext cx="779400" cy="4590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spcBef>
                        <a:spcPts val="75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Device</a:t>
                    </a:r>
                    <a:br>
                      <a:rPr sz="1200"/>
                    </a:br>
                    <a:r>
                      <a:rPr b="1" lang="en-US" sz="1200" spc="-1" strike="noStrike">
                        <a:solidFill>
                          <a:srgbClr val="000000"/>
                        </a:solidFill>
                        <a:latin typeface="Times New Roman"/>
                      </a:rPr>
                      <a:t>Mgrs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02" name=""/>
              <p:cNvSpPr/>
              <p:nvPr/>
            </p:nvSpPr>
            <p:spPr>
              <a:xfrm>
                <a:off x="4317840" y="5397480"/>
                <a:ext cx="1568520" cy="230760"/>
              </a:xfrm>
              <a:prstGeom prst="rect">
                <a:avLst/>
              </a:prstGeom>
              <a:noFill/>
              <a:ln w="28440">
                <a:solidFill>
                  <a:srgbClr val="6600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75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660066"/>
                    </a:solidFill>
                    <a:latin typeface="Times New Roman"/>
                  </a:rPr>
                  <a:t>POSIX        CORBA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03" name=""/>
            <p:cNvSpPr/>
            <p:nvPr/>
          </p:nvSpPr>
          <p:spPr>
            <a:xfrm rot="2161200">
              <a:off x="6248520" y="5277960"/>
              <a:ext cx="888840" cy="293760"/>
            </a:xfrm>
            <a:prstGeom prst="leftArrow">
              <a:avLst>
                <a:gd name="adj1" fmla="val 50000"/>
                <a:gd name="adj2" fmla="val 75643"/>
              </a:avLst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4" name=""/>
            <p:cNvGrpSpPr/>
            <p:nvPr/>
          </p:nvGrpSpPr>
          <p:grpSpPr>
            <a:xfrm>
              <a:off x="5877000" y="5634000"/>
              <a:ext cx="2449440" cy="918720"/>
              <a:chOff x="5877000" y="5634000"/>
              <a:chExt cx="2449440" cy="918720"/>
            </a:xfrm>
          </p:grpSpPr>
          <p:grpSp>
            <p:nvGrpSpPr>
              <p:cNvPr id="205" name=""/>
              <p:cNvGrpSpPr/>
              <p:nvPr/>
            </p:nvGrpSpPr>
            <p:grpSpPr>
              <a:xfrm>
                <a:off x="5877000" y="5895000"/>
                <a:ext cx="2449440" cy="657720"/>
                <a:chOff x="5877000" y="5895000"/>
                <a:chExt cx="2449440" cy="657720"/>
              </a:xfrm>
            </p:grpSpPr>
            <p:grpSp>
              <p:nvGrpSpPr>
                <p:cNvPr id="206" name=""/>
                <p:cNvGrpSpPr/>
                <p:nvPr/>
              </p:nvGrpSpPr>
              <p:grpSpPr>
                <a:xfrm>
                  <a:off x="6178680" y="5987520"/>
                  <a:ext cx="872640" cy="169560"/>
                  <a:chOff x="6178680" y="5987520"/>
                  <a:chExt cx="872640" cy="169560"/>
                </a:xfrm>
              </p:grpSpPr>
              <p:sp>
                <p:nvSpPr>
                  <p:cNvPr id="207" name=""/>
                  <p:cNvSpPr/>
                  <p:nvPr/>
                </p:nvSpPr>
                <p:spPr>
                  <a:xfrm>
                    <a:off x="6178680" y="6104880"/>
                    <a:ext cx="111600" cy="52200"/>
                  </a:xfrm>
                  <a:prstGeom prst="rect">
                    <a:avLst/>
                  </a:prstGeom>
                  <a:solidFill>
                    <a:srgbClr val="8cf4ea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"/>
                  <p:cNvSpPr/>
                  <p:nvPr/>
                </p:nvSpPr>
                <p:spPr>
                  <a:xfrm>
                    <a:off x="6482880" y="6104880"/>
                    <a:ext cx="111600" cy="52200"/>
                  </a:xfrm>
                  <a:prstGeom prst="rect">
                    <a:avLst/>
                  </a:prstGeom>
                  <a:solidFill>
                    <a:srgbClr val="8cf4ea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9" name=""/>
                  <p:cNvSpPr/>
                  <p:nvPr/>
                </p:nvSpPr>
                <p:spPr>
                  <a:xfrm>
                    <a:off x="6635160" y="6104880"/>
                    <a:ext cx="111600" cy="52200"/>
                  </a:xfrm>
                  <a:prstGeom prst="rect">
                    <a:avLst/>
                  </a:prstGeom>
                  <a:solidFill>
                    <a:srgbClr val="8cf4ea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"/>
                  <p:cNvSpPr/>
                  <p:nvPr/>
                </p:nvSpPr>
                <p:spPr>
                  <a:xfrm>
                    <a:off x="6939720" y="6104880"/>
                    <a:ext cx="111600" cy="52200"/>
                  </a:xfrm>
                  <a:prstGeom prst="rect">
                    <a:avLst/>
                  </a:prstGeom>
                  <a:solidFill>
                    <a:srgbClr val="8cf4ea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"/>
                  <p:cNvSpPr/>
                  <p:nvPr/>
                </p:nvSpPr>
                <p:spPr>
                  <a:xfrm>
                    <a:off x="6513480" y="5987520"/>
                    <a:ext cx="172440" cy="52200"/>
                  </a:xfrm>
                  <a:prstGeom prst="rect">
                    <a:avLst/>
                  </a:prstGeom>
                  <a:solidFill>
                    <a:srgbClr val="8cf4ea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2" name=""/>
                  <p:cNvSpPr/>
                  <p:nvPr/>
                </p:nvSpPr>
                <p:spPr>
                  <a:xfrm>
                    <a:off x="6234480" y="6081840"/>
                    <a:ext cx="76104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"/>
                  <p:cNvSpPr/>
                  <p:nvPr/>
                </p:nvSpPr>
                <p:spPr>
                  <a:xfrm>
                    <a:off x="6234480" y="6081840"/>
                    <a:ext cx="0" cy="19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"/>
                  <p:cNvSpPr/>
                  <p:nvPr/>
                </p:nvSpPr>
                <p:spPr>
                  <a:xfrm>
                    <a:off x="6538680" y="6081840"/>
                    <a:ext cx="0" cy="19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6690960" y="6081840"/>
                    <a:ext cx="0" cy="19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"/>
                  <p:cNvSpPr/>
                  <p:nvPr/>
                </p:nvSpPr>
                <p:spPr>
                  <a:xfrm>
                    <a:off x="6995520" y="6081840"/>
                    <a:ext cx="0" cy="19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7" name=""/>
                  <p:cNvSpPr/>
                  <p:nvPr/>
                </p:nvSpPr>
                <p:spPr>
                  <a:xfrm>
                    <a:off x="6787440" y="6104880"/>
                    <a:ext cx="111600" cy="52200"/>
                  </a:xfrm>
                  <a:prstGeom prst="rect">
                    <a:avLst/>
                  </a:prstGeom>
                  <a:solidFill>
                    <a:srgbClr val="8cf4ea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8" name=""/>
                  <p:cNvSpPr/>
                  <p:nvPr/>
                </p:nvSpPr>
                <p:spPr>
                  <a:xfrm>
                    <a:off x="6843240" y="6081840"/>
                    <a:ext cx="0" cy="19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"/>
                  <p:cNvSpPr/>
                  <p:nvPr/>
                </p:nvSpPr>
                <p:spPr>
                  <a:xfrm>
                    <a:off x="6330600" y="6104880"/>
                    <a:ext cx="111600" cy="52200"/>
                  </a:xfrm>
                  <a:prstGeom prst="rect">
                    <a:avLst/>
                  </a:prstGeom>
                  <a:solidFill>
                    <a:srgbClr val="8cf4ea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0" name=""/>
                  <p:cNvSpPr/>
                  <p:nvPr/>
                </p:nvSpPr>
                <p:spPr>
                  <a:xfrm>
                    <a:off x="6386400" y="6081840"/>
                    <a:ext cx="0" cy="19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"/>
                  <p:cNvSpPr/>
                  <p:nvPr/>
                </p:nvSpPr>
                <p:spPr>
                  <a:xfrm>
                    <a:off x="6599880" y="6042960"/>
                    <a:ext cx="0" cy="388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6834600" y="5991840"/>
                  <a:ext cx="1393920" cy="493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2160" rIns="92160" tIns="46080" bIns="46080" anchor="t">
                  <a:spAutoFit/>
                </a:bodyPr>
                <a:p>
                  <a:pPr algn="ctr">
                    <a:lnSpc>
                      <a:spcPct val="11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Components Profiles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23" name=""/>
                <p:cNvGrpSpPr/>
                <p:nvPr/>
              </p:nvGrpSpPr>
              <p:grpSpPr>
                <a:xfrm>
                  <a:off x="6204960" y="6190920"/>
                  <a:ext cx="871920" cy="169560"/>
                  <a:chOff x="6204960" y="6190920"/>
                  <a:chExt cx="871920" cy="169560"/>
                </a:xfrm>
              </p:grpSpPr>
              <p:sp>
                <p:nvSpPr>
                  <p:cNvPr id="224" name=""/>
                  <p:cNvSpPr/>
                  <p:nvPr/>
                </p:nvSpPr>
                <p:spPr>
                  <a:xfrm>
                    <a:off x="6204960" y="6308280"/>
                    <a:ext cx="111240" cy="52200"/>
                  </a:xfrm>
                  <a:prstGeom prst="rect">
                    <a:avLst/>
                  </a:prstGeom>
                  <a:solidFill>
                    <a:srgbClr val="9900cc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"/>
                  <p:cNvSpPr/>
                  <p:nvPr/>
                </p:nvSpPr>
                <p:spPr>
                  <a:xfrm>
                    <a:off x="6509160" y="6308280"/>
                    <a:ext cx="111240" cy="52200"/>
                  </a:xfrm>
                  <a:prstGeom prst="rect">
                    <a:avLst/>
                  </a:prstGeom>
                  <a:solidFill>
                    <a:srgbClr val="9900cc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6" name=""/>
                  <p:cNvSpPr/>
                  <p:nvPr/>
                </p:nvSpPr>
                <p:spPr>
                  <a:xfrm>
                    <a:off x="6661440" y="6308280"/>
                    <a:ext cx="111240" cy="52200"/>
                  </a:xfrm>
                  <a:prstGeom prst="rect">
                    <a:avLst/>
                  </a:prstGeom>
                  <a:solidFill>
                    <a:srgbClr val="9900cc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7" name=""/>
                  <p:cNvSpPr/>
                  <p:nvPr/>
                </p:nvSpPr>
                <p:spPr>
                  <a:xfrm>
                    <a:off x="6965640" y="6308280"/>
                    <a:ext cx="111240" cy="52200"/>
                  </a:xfrm>
                  <a:prstGeom prst="rect">
                    <a:avLst/>
                  </a:prstGeom>
                  <a:solidFill>
                    <a:srgbClr val="9900cc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"/>
                  <p:cNvSpPr/>
                  <p:nvPr/>
                </p:nvSpPr>
                <p:spPr>
                  <a:xfrm>
                    <a:off x="6539400" y="6190920"/>
                    <a:ext cx="172080" cy="52200"/>
                  </a:xfrm>
                  <a:prstGeom prst="rect">
                    <a:avLst/>
                  </a:prstGeom>
                  <a:solidFill>
                    <a:srgbClr val="9900cc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9" name=""/>
                  <p:cNvSpPr/>
                  <p:nvPr/>
                </p:nvSpPr>
                <p:spPr>
                  <a:xfrm>
                    <a:off x="6260400" y="6285240"/>
                    <a:ext cx="760680" cy="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0" name=""/>
                  <p:cNvSpPr/>
                  <p:nvPr/>
                </p:nvSpPr>
                <p:spPr>
                  <a:xfrm>
                    <a:off x="6260400" y="6285240"/>
                    <a:ext cx="0" cy="19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"/>
                  <p:cNvSpPr/>
                  <p:nvPr/>
                </p:nvSpPr>
                <p:spPr>
                  <a:xfrm>
                    <a:off x="6564960" y="6285240"/>
                    <a:ext cx="0" cy="19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"/>
                  <p:cNvSpPr/>
                  <p:nvPr/>
                </p:nvSpPr>
                <p:spPr>
                  <a:xfrm>
                    <a:off x="6717240" y="6285240"/>
                    <a:ext cx="0" cy="19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"/>
                  <p:cNvSpPr/>
                  <p:nvPr/>
                </p:nvSpPr>
                <p:spPr>
                  <a:xfrm>
                    <a:off x="7021440" y="6285240"/>
                    <a:ext cx="0" cy="19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"/>
                  <p:cNvSpPr/>
                  <p:nvPr/>
                </p:nvSpPr>
                <p:spPr>
                  <a:xfrm>
                    <a:off x="6813360" y="6308280"/>
                    <a:ext cx="111240" cy="52200"/>
                  </a:xfrm>
                  <a:prstGeom prst="rect">
                    <a:avLst/>
                  </a:prstGeom>
                  <a:solidFill>
                    <a:srgbClr val="9900cc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"/>
                  <p:cNvSpPr/>
                  <p:nvPr/>
                </p:nvSpPr>
                <p:spPr>
                  <a:xfrm>
                    <a:off x="6869160" y="6285240"/>
                    <a:ext cx="0" cy="19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6" name=""/>
                  <p:cNvSpPr/>
                  <p:nvPr/>
                </p:nvSpPr>
                <p:spPr>
                  <a:xfrm>
                    <a:off x="6356880" y="6308280"/>
                    <a:ext cx="111240" cy="52200"/>
                  </a:xfrm>
                  <a:prstGeom prst="rect">
                    <a:avLst/>
                  </a:prstGeom>
                  <a:solidFill>
                    <a:srgbClr val="9900cc"/>
                  </a:solidFill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5400" bIns="54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"/>
                  <p:cNvSpPr/>
                  <p:nvPr/>
                </p:nvSpPr>
                <p:spPr>
                  <a:xfrm>
                    <a:off x="6412680" y="6285240"/>
                    <a:ext cx="0" cy="1944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"/>
                  <p:cNvSpPr/>
                  <p:nvPr/>
                </p:nvSpPr>
                <p:spPr>
                  <a:xfrm>
                    <a:off x="6625800" y="6246360"/>
                    <a:ext cx="0" cy="38880"/>
                  </a:xfrm>
                  <a:prstGeom prst="line">
                    <a:avLst/>
                  </a:prstGeom>
                  <a:ln w="255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"/>
                <p:cNvSpPr/>
                <p:nvPr/>
              </p:nvSpPr>
              <p:spPr>
                <a:xfrm>
                  <a:off x="5877000" y="5895000"/>
                  <a:ext cx="2449440" cy="657720"/>
                </a:xfrm>
                <a:prstGeom prst="ellipse">
                  <a:avLst/>
                </a:prstGeom>
                <a:noFill/>
                <a:ln w="38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6439320" y="5634000"/>
                <a:ext cx="145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HW Assembl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3F76-920C-4ABE-8EAC-96FFED20D1C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TRS Program Schedu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66560" y="1174680"/>
            <a:ext cx="8337600" cy="5298480"/>
            <a:chOff x="466560" y="1174680"/>
            <a:chExt cx="8337600" cy="5298480"/>
          </a:xfrm>
        </p:grpSpPr>
        <p:sp>
          <p:nvSpPr>
            <p:cNvPr id="243" name=""/>
            <p:cNvSpPr/>
            <p:nvPr/>
          </p:nvSpPr>
          <p:spPr>
            <a:xfrm>
              <a:off x="466560" y="1174680"/>
              <a:ext cx="8336160" cy="5267520"/>
            </a:xfrm>
            <a:prstGeom prst="rect">
              <a:avLst/>
            </a:prstGeom>
            <a:solidFill>
              <a:srgbClr val="eaeaea"/>
            </a:solidFill>
            <a:ln w="28440">
              <a:solidFill>
                <a:srgbClr val="080808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74480" y="1254240"/>
              <a:ext cx="8329680" cy="518796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33520" y="3038760"/>
              <a:ext cx="2349360" cy="204480"/>
            </a:xfrm>
            <a:prstGeom prst="rect">
              <a:avLst/>
            </a:prstGeom>
            <a:gradFill rotWithShape="0">
              <a:gsLst>
                <a:gs pos="0">
                  <a:srgbClr val="00cc00"/>
                </a:gs>
                <a:gs pos="100000">
                  <a:srgbClr val="66ff66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996633"/>
                  </a:solidFill>
                  <a:latin typeface="Arial"/>
                </a:rPr>
                <a:t>JTRS Step 2B / 2C Prototyp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6" name=""/>
            <p:cNvGrpSpPr/>
            <p:nvPr/>
          </p:nvGrpSpPr>
          <p:grpSpPr>
            <a:xfrm>
              <a:off x="523800" y="1305360"/>
              <a:ext cx="8229240" cy="5167800"/>
              <a:chOff x="523800" y="1305360"/>
              <a:chExt cx="8229240" cy="5167800"/>
            </a:xfrm>
          </p:grpSpPr>
          <p:grpSp>
            <p:nvGrpSpPr>
              <p:cNvPr id="247" name=""/>
              <p:cNvGrpSpPr/>
              <p:nvPr/>
            </p:nvGrpSpPr>
            <p:grpSpPr>
              <a:xfrm>
                <a:off x="523800" y="1305360"/>
                <a:ext cx="914040" cy="5167800"/>
                <a:chOff x="523800" y="1305360"/>
                <a:chExt cx="914040" cy="5167800"/>
              </a:xfrm>
            </p:grpSpPr>
            <p:sp>
              <p:nvSpPr>
                <p:cNvPr id="248" name=""/>
                <p:cNvSpPr/>
                <p:nvPr/>
              </p:nvSpPr>
              <p:spPr>
                <a:xfrm>
                  <a:off x="523800" y="1318680"/>
                  <a:ext cx="914040" cy="5154480"/>
                </a:xfrm>
                <a:prstGeom prst="rect">
                  <a:avLst/>
                </a:prstGeom>
                <a:noFill/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>
                  <a:off x="523800" y="1305360"/>
                  <a:ext cx="914040" cy="459360"/>
                </a:xfrm>
                <a:prstGeom prst="rect">
                  <a:avLst/>
                </a:prstGeom>
                <a:noFill/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Y00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   2   3   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23800" y="1533600"/>
                  <a:ext cx="914040" cy="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523800" y="1748160"/>
                  <a:ext cx="914040" cy="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1438200" y="1305360"/>
                <a:ext cx="914040" cy="5167800"/>
                <a:chOff x="1438200" y="1305360"/>
                <a:chExt cx="914040" cy="516780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1438200" y="1318680"/>
                  <a:ext cx="914040" cy="5154480"/>
                </a:xfrm>
                <a:prstGeom prst="rect">
                  <a:avLst/>
                </a:prstGeom>
                <a:noFill/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438200" y="1305360"/>
                  <a:ext cx="914040" cy="459360"/>
                </a:xfrm>
                <a:prstGeom prst="rect">
                  <a:avLst/>
                </a:prstGeom>
                <a:noFill/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Y01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   2   3   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>
                  <a:off x="1438200" y="1533600"/>
                  <a:ext cx="914040" cy="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1438200" y="1748160"/>
                  <a:ext cx="914040" cy="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7" name=""/>
              <p:cNvGrpSpPr/>
              <p:nvPr/>
            </p:nvGrpSpPr>
            <p:grpSpPr>
              <a:xfrm>
                <a:off x="2352600" y="1305360"/>
                <a:ext cx="914040" cy="5167800"/>
                <a:chOff x="2352600" y="1305360"/>
                <a:chExt cx="914040" cy="5167800"/>
              </a:xfrm>
            </p:grpSpPr>
            <p:sp>
              <p:nvSpPr>
                <p:cNvPr id="258" name=""/>
                <p:cNvSpPr/>
                <p:nvPr/>
              </p:nvSpPr>
              <p:spPr>
                <a:xfrm>
                  <a:off x="2352600" y="1318680"/>
                  <a:ext cx="914040" cy="5154480"/>
                </a:xfrm>
                <a:prstGeom prst="rect">
                  <a:avLst/>
                </a:prstGeom>
                <a:noFill/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2352600" y="1305360"/>
                  <a:ext cx="914040" cy="459360"/>
                </a:xfrm>
                <a:prstGeom prst="rect">
                  <a:avLst/>
                </a:prstGeom>
                <a:noFill/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Y02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   2   3   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2352600" y="1533600"/>
                  <a:ext cx="914040" cy="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"/>
                <p:cNvSpPr/>
                <p:nvPr/>
              </p:nvSpPr>
              <p:spPr>
                <a:xfrm>
                  <a:off x="2352600" y="1748160"/>
                  <a:ext cx="914040" cy="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"/>
              <p:cNvGrpSpPr/>
              <p:nvPr/>
            </p:nvGrpSpPr>
            <p:grpSpPr>
              <a:xfrm>
                <a:off x="3267000" y="1305360"/>
                <a:ext cx="914040" cy="5167800"/>
                <a:chOff x="3267000" y="1305360"/>
                <a:chExt cx="914040" cy="516780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267000" y="1318680"/>
                  <a:ext cx="914040" cy="5154480"/>
                </a:xfrm>
                <a:prstGeom prst="rect">
                  <a:avLst/>
                </a:prstGeom>
                <a:noFill/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267000" y="1305360"/>
                  <a:ext cx="914040" cy="459360"/>
                </a:xfrm>
                <a:prstGeom prst="rect">
                  <a:avLst/>
                </a:prstGeom>
                <a:noFill/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Y03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   2   3   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"/>
                <p:cNvSpPr/>
                <p:nvPr/>
              </p:nvSpPr>
              <p:spPr>
                <a:xfrm>
                  <a:off x="3267000" y="1533600"/>
                  <a:ext cx="914040" cy="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3267000" y="1748160"/>
                  <a:ext cx="914040" cy="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4181400" y="1305360"/>
                <a:ext cx="914040" cy="5167800"/>
                <a:chOff x="4181400" y="1305360"/>
                <a:chExt cx="914040" cy="516780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4181400" y="1318680"/>
                  <a:ext cx="914040" cy="5154480"/>
                </a:xfrm>
                <a:prstGeom prst="rect">
                  <a:avLst/>
                </a:prstGeom>
                <a:noFill/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4181400" y="1305360"/>
                  <a:ext cx="914040" cy="459360"/>
                </a:xfrm>
                <a:prstGeom prst="rect">
                  <a:avLst/>
                </a:prstGeom>
                <a:noFill/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Y04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   2   3   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4181400" y="1533600"/>
                  <a:ext cx="914040" cy="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>
                  <a:off x="4181400" y="1748160"/>
                  <a:ext cx="914040" cy="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"/>
              <p:cNvGrpSpPr/>
              <p:nvPr/>
            </p:nvGrpSpPr>
            <p:grpSpPr>
              <a:xfrm>
                <a:off x="5095800" y="1305360"/>
                <a:ext cx="914040" cy="5167800"/>
                <a:chOff x="5095800" y="1305360"/>
                <a:chExt cx="914040" cy="516780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095800" y="1318680"/>
                  <a:ext cx="914040" cy="5154480"/>
                </a:xfrm>
                <a:prstGeom prst="rect">
                  <a:avLst/>
                </a:prstGeom>
                <a:noFill/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"/>
                <p:cNvSpPr/>
                <p:nvPr/>
              </p:nvSpPr>
              <p:spPr>
                <a:xfrm>
                  <a:off x="5095800" y="1305360"/>
                  <a:ext cx="914040" cy="459360"/>
                </a:xfrm>
                <a:prstGeom prst="rect">
                  <a:avLst/>
                </a:prstGeom>
                <a:noFill/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Y05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   2   3   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5095800" y="1533600"/>
                  <a:ext cx="914040" cy="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"/>
                <p:cNvSpPr/>
                <p:nvPr/>
              </p:nvSpPr>
              <p:spPr>
                <a:xfrm>
                  <a:off x="5095800" y="1748160"/>
                  <a:ext cx="914040" cy="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"/>
              <p:cNvGrpSpPr/>
              <p:nvPr/>
            </p:nvGrpSpPr>
            <p:grpSpPr>
              <a:xfrm>
                <a:off x="6010200" y="1305360"/>
                <a:ext cx="914040" cy="5167800"/>
                <a:chOff x="6010200" y="1305360"/>
                <a:chExt cx="914040" cy="516780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6010200" y="1318680"/>
                  <a:ext cx="914040" cy="5154480"/>
                </a:xfrm>
                <a:prstGeom prst="rect">
                  <a:avLst/>
                </a:prstGeom>
                <a:noFill/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6010200" y="1305360"/>
                  <a:ext cx="914040" cy="459360"/>
                </a:xfrm>
                <a:prstGeom prst="rect">
                  <a:avLst/>
                </a:prstGeom>
                <a:noFill/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Y06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   2   3   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>
                  <a:off x="6010200" y="1533600"/>
                  <a:ext cx="914040" cy="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6010200" y="1748160"/>
                  <a:ext cx="914040" cy="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6924600" y="1305360"/>
                <a:ext cx="914040" cy="5167800"/>
                <a:chOff x="6924600" y="1305360"/>
                <a:chExt cx="914040" cy="516780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6924600" y="1318680"/>
                  <a:ext cx="914040" cy="5154480"/>
                </a:xfrm>
                <a:prstGeom prst="rect">
                  <a:avLst/>
                </a:prstGeom>
                <a:noFill/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6924600" y="1305360"/>
                  <a:ext cx="914040" cy="459360"/>
                </a:xfrm>
                <a:prstGeom prst="rect">
                  <a:avLst/>
                </a:prstGeom>
                <a:noFill/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Y07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   2   3   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6924600" y="1533600"/>
                  <a:ext cx="914040" cy="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"/>
                <p:cNvSpPr/>
                <p:nvPr/>
              </p:nvSpPr>
              <p:spPr>
                <a:xfrm>
                  <a:off x="6924600" y="1748160"/>
                  <a:ext cx="914040" cy="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7" name=""/>
              <p:cNvGrpSpPr/>
              <p:nvPr/>
            </p:nvGrpSpPr>
            <p:grpSpPr>
              <a:xfrm>
                <a:off x="7839000" y="1305360"/>
                <a:ext cx="914040" cy="5167800"/>
                <a:chOff x="7839000" y="1305360"/>
                <a:chExt cx="914040" cy="5167800"/>
              </a:xfrm>
            </p:grpSpPr>
            <p:sp>
              <p:nvSpPr>
                <p:cNvPr id="288" name=""/>
                <p:cNvSpPr/>
                <p:nvPr/>
              </p:nvSpPr>
              <p:spPr>
                <a:xfrm>
                  <a:off x="7839000" y="1318680"/>
                  <a:ext cx="914040" cy="5154480"/>
                </a:xfrm>
                <a:prstGeom prst="rect">
                  <a:avLst/>
                </a:prstGeom>
                <a:noFill/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"/>
                <p:cNvSpPr/>
                <p:nvPr/>
              </p:nvSpPr>
              <p:spPr>
                <a:xfrm>
                  <a:off x="7839000" y="1305360"/>
                  <a:ext cx="914040" cy="459360"/>
                </a:xfrm>
                <a:prstGeom prst="rect">
                  <a:avLst/>
                </a:prstGeom>
                <a:noFill/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FY08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Arial"/>
                    </a:rPr>
                    <a:t>1   2   3   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7839000" y="1533600"/>
                  <a:ext cx="914040" cy="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7839000" y="1748160"/>
                  <a:ext cx="914040" cy="0"/>
                </a:xfrm>
                <a:prstGeom prst="line">
                  <a:avLst/>
                </a:prstGeom>
                <a:ln cap="rnd" w="32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92" name=""/>
            <p:cNvSpPr/>
            <p:nvPr/>
          </p:nvSpPr>
          <p:spPr>
            <a:xfrm>
              <a:off x="520560" y="4394520"/>
              <a:ext cx="1754280" cy="28116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Digital Modular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Radio (DMR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16195200">
              <a:off x="7929000" y="2322720"/>
              <a:ext cx="141480" cy="1141560"/>
            </a:xfrm>
            <a:prstGeom prst="downArrow">
              <a:avLst>
                <a:gd name="adj1" fmla="val 33407"/>
                <a:gd name="adj2" fmla="val 196899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4133160" y="2950200"/>
              <a:ext cx="191880" cy="935640"/>
            </a:xfrm>
            <a:prstGeom prst="downArrow">
              <a:avLst>
                <a:gd name="adj1" fmla="val 58231"/>
                <a:gd name="adj2" fmla="val 4609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aveform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4401360" y="2954520"/>
              <a:ext cx="152280" cy="2079000"/>
            </a:xfrm>
            <a:prstGeom prst="downArrow">
              <a:avLst>
                <a:gd name="adj1" fmla="val 55213"/>
                <a:gd name="adj2" fmla="val 86908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avefor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5504760" y="2951640"/>
              <a:ext cx="191880" cy="2577240"/>
            </a:xfrm>
            <a:prstGeom prst="downArrow">
              <a:avLst>
                <a:gd name="adj1" fmla="val 48259"/>
                <a:gd name="adj2" fmla="val 54224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aveform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2744640" y="4409280"/>
              <a:ext cx="6005520" cy="308160"/>
            </a:xfrm>
            <a:prstGeom prst="rect">
              <a:avLst/>
            </a:prstGeom>
            <a:solidFill>
              <a:srgbClr val="00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Cluster 3 (Maritime/Fixed-Sit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359080" y="3423960"/>
              <a:ext cx="6391080" cy="26784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Cluster 1 (Ground Vehicular, Rotary Wing, TACP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2730600" y="3896280"/>
              <a:ext cx="6019560" cy="28116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Cluster 2 (Handheld/Manpack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1434240" y="2680560"/>
              <a:ext cx="1536840" cy="281160"/>
            </a:xfrm>
            <a:prstGeom prst="rtTriangle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971800" y="2680560"/>
              <a:ext cx="5778360" cy="281160"/>
            </a:xfrm>
            <a:prstGeom prst="rect">
              <a:avLst/>
            </a:prstGeom>
            <a:solidFill>
              <a:srgbClr val="99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JTRS Waveform Application Librar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 rot="16200000">
              <a:off x="3753000" y="3112920"/>
              <a:ext cx="509760" cy="174600"/>
            </a:xfrm>
            <a:prstGeom prst="leftArrow">
              <a:avLst>
                <a:gd name="adj1" fmla="val 50000"/>
                <a:gd name="adj2" fmla="val 72990"/>
              </a:avLst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waveforms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23800" y="1735920"/>
              <a:ext cx="1376280" cy="287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oncept &amp;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ech Deve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255680" y="1737000"/>
              <a:ext cx="2860560" cy="285840"/>
            </a:xfrm>
            <a:prstGeom prst="parallelogram">
              <a:avLst>
                <a:gd name="adj" fmla="val 117172"/>
              </a:avLst>
            </a:prstGeom>
            <a:solidFill>
              <a:srgbClr val="ffcc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isk Reduc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&amp; Demonstra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4116240" y="1735920"/>
              <a:ext cx="4640400" cy="287280"/>
            </a:xfrm>
            <a:prstGeom prst="rect">
              <a:avLst/>
            </a:prstGeom>
            <a:solidFill>
              <a:srgbClr val="cc33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1400" spc="-1" strike="noStrike">
                  <a:solidFill>
                    <a:srgbClr val="000000"/>
                  </a:solidFill>
                  <a:latin typeface="Times New Roman"/>
                </a:rPr>
                <a:t>Sustain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3494160" y="1740240"/>
              <a:ext cx="1893600" cy="282600"/>
            </a:xfrm>
            <a:prstGeom prst="parallelogram">
              <a:avLst>
                <a:gd name="adj" fmla="val 9626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roduction &amp;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eploymen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469880" y="2099880"/>
              <a:ext cx="689040" cy="339840"/>
            </a:xfrm>
            <a:prstGeom prst="rect">
              <a:avLst/>
            </a:prstGeom>
            <a:solidFill>
              <a:srgbClr val="cc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2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877680" y="2106000"/>
              <a:ext cx="598680" cy="33948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1.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154240" y="2107440"/>
              <a:ext cx="6608880" cy="315720"/>
            </a:xfrm>
            <a:prstGeom prst="rect">
              <a:avLst/>
            </a:prstGeom>
            <a:solidFill>
              <a:srgbClr val="e05bff"/>
            </a:solidFill>
            <a:ln w="19080">
              <a:solidFill>
                <a:srgbClr val="9900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SCA Maintenanc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rot="16195200">
              <a:off x="7096320" y="1536480"/>
              <a:ext cx="135360" cy="1524240"/>
            </a:xfrm>
            <a:prstGeom prst="downArrow">
              <a:avLst>
                <a:gd name="adj1" fmla="val 33407"/>
                <a:gd name="adj2" fmla="val 274791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223360" y="2179800"/>
              <a:ext cx="979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Arial"/>
                </a:rPr>
                <a:t>V2.1, V2.2 . . 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98240" y="2110320"/>
              <a:ext cx="408240" cy="352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3333cc"/>
                  </a:solidFill>
                  <a:latin typeface="Arial"/>
                </a:rPr>
                <a:t>SC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74640" y="2412720"/>
              <a:ext cx="32227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900" spc="-1" strike="noStrike">
                  <a:solidFill>
                    <a:srgbClr val="000000"/>
                  </a:solidFill>
                  <a:latin typeface="Arial"/>
                </a:rPr>
                <a:t>Architecture Development            Architecture Evolu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36760" y="3267360"/>
              <a:ext cx="1742760" cy="36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Architecture Valid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37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Software Radio Validatio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3170160" y="4975200"/>
              <a:ext cx="5567400" cy="281160"/>
            </a:xfrm>
            <a:prstGeom prst="rect">
              <a:avLst/>
            </a:prstGeom>
            <a:solidFill>
              <a:srgbClr val="99ccff"/>
            </a:solidFill>
            <a:ln w="1260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Cluster 4 (Airborne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4181400" y="5551560"/>
              <a:ext cx="4556160" cy="281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38160">
              <a:solidFill>
                <a:srgbClr val="cc66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00"/>
                  </a:solidFill>
                  <a:latin typeface="Arial"/>
                </a:rPr>
                <a:t>Proposed Space Cluster ... n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22360" y="4704120"/>
              <a:ext cx="1752480" cy="28116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Joint Communication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00"/>
                  </a:solidFill>
                  <a:latin typeface="Arial"/>
                </a:rPr>
                <a:t>Information Terminal (JCIT)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01480" y="3888720"/>
              <a:ext cx="2141640" cy="251280"/>
            </a:xfrm>
            <a:prstGeom prst="rect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663300"/>
                  </a:solidFill>
                  <a:latin typeface="Arial"/>
                </a:rPr>
                <a:t>MBMMR &amp; MBITR Develop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295360" y="2594880"/>
              <a:ext cx="182520" cy="14112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468080" y="2555640"/>
              <a:ext cx="95328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99"/>
                  </a:solidFill>
                  <a:latin typeface="Arial"/>
                </a:rPr>
                <a:t>Lead Test Lab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99"/>
                  </a:solidFill>
                  <a:latin typeface="Arial"/>
                </a:rPr>
                <a:t>Selection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076560" y="5611320"/>
              <a:ext cx="182520" cy="141480"/>
            </a:xfrm>
            <a:prstGeom prst="triangle">
              <a:avLst>
                <a:gd name="adj" fmla="val 50000"/>
              </a:avLst>
            </a:prstGeom>
            <a:solidFill>
              <a:srgbClr val="9999ff"/>
            </a:solidFill>
            <a:ln w="19080">
              <a:solidFill>
                <a:srgbClr val="33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pPr algn="ctr">
                <a:lnSpc>
                  <a:spcPct val="100000"/>
                </a:lnSpc>
                <a:spcBef>
                  <a:spcPts val="675"/>
                </a:spcBef>
                <a:buClr>
                  <a:srgbClr val="333399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310120" y="5507640"/>
              <a:ext cx="869400" cy="34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75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99"/>
                  </a:solidFill>
                  <a:latin typeface="Arial"/>
                </a:rPr>
                <a:t>Space Study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spcBef>
                  <a:spcPts val="33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333399"/>
                  </a:solidFill>
                  <a:latin typeface="Arial"/>
                </a:rPr>
                <a:t>Effort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2573280" y="4033440"/>
              <a:ext cx="457200" cy="0"/>
            </a:xfrm>
            <a:prstGeom prst="line">
              <a:avLst/>
            </a:prstGeom>
            <a:ln w="28440">
              <a:solidFill>
                <a:srgbClr val="6600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268360" y="4538880"/>
              <a:ext cx="685800" cy="0"/>
            </a:xfrm>
            <a:prstGeom prst="line">
              <a:avLst/>
            </a:prstGeom>
            <a:ln w="2844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73C4-2633-40C8-A510-F88CC70255D8}" type="slidenum">
              <a:t>6</a:t>
            </a:fld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urrent International Interest in JTR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95520" y="3230640"/>
            <a:ext cx="438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Repeated Discussions/Contacts (5 or Mor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7" name=""/>
          <p:cNvGrpSpPr/>
          <p:nvPr/>
        </p:nvGrpSpPr>
        <p:grpSpPr>
          <a:xfrm>
            <a:off x="646200" y="3778200"/>
            <a:ext cx="8269200" cy="1243800"/>
            <a:chOff x="646200" y="3778200"/>
            <a:chExt cx="8269200" cy="1243800"/>
          </a:xfrm>
        </p:grpSpPr>
        <p:grpSp>
          <p:nvGrpSpPr>
            <p:cNvPr id="328" name=""/>
            <p:cNvGrpSpPr/>
            <p:nvPr/>
          </p:nvGrpSpPr>
          <p:grpSpPr>
            <a:xfrm>
              <a:off x="646200" y="3778200"/>
              <a:ext cx="1414440" cy="1243800"/>
              <a:chOff x="646200" y="3778200"/>
              <a:chExt cx="1414440" cy="1243800"/>
            </a:xfrm>
          </p:grpSpPr>
          <p:pic>
            <p:nvPicPr>
              <p:cNvPr id="32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646200" y="3778200"/>
                <a:ext cx="1414440" cy="961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0" name=""/>
              <p:cNvSpPr/>
              <p:nvPr/>
            </p:nvSpPr>
            <p:spPr>
              <a:xfrm>
                <a:off x="995040" y="4714920"/>
                <a:ext cx="672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ATO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1" name=""/>
            <p:cNvGrpSpPr/>
            <p:nvPr/>
          </p:nvGrpSpPr>
          <p:grpSpPr>
            <a:xfrm>
              <a:off x="4140360" y="3778200"/>
              <a:ext cx="1305000" cy="1175400"/>
              <a:chOff x="4140360" y="3778200"/>
              <a:chExt cx="1305000" cy="1175400"/>
            </a:xfrm>
          </p:grpSpPr>
          <p:pic>
            <p:nvPicPr>
              <p:cNvPr id="332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140360" y="3778200"/>
                <a:ext cx="130500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3" name=""/>
              <p:cNvSpPr/>
              <p:nvPr/>
            </p:nvSpPr>
            <p:spPr>
              <a:xfrm>
                <a:off x="4453920" y="4646520"/>
                <a:ext cx="746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Swede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4" name=""/>
            <p:cNvGrpSpPr/>
            <p:nvPr/>
          </p:nvGrpSpPr>
          <p:grpSpPr>
            <a:xfrm>
              <a:off x="5951880" y="3778200"/>
              <a:ext cx="1314360" cy="1208880"/>
              <a:chOff x="5951880" y="3778200"/>
              <a:chExt cx="1314360" cy="1208880"/>
            </a:xfrm>
          </p:grpSpPr>
          <p:pic>
            <p:nvPicPr>
              <p:cNvPr id="335" name="de" descr="[Germany]">
                <a:hlinkClick r:id="rId3"/>
              </p:cNvPr>
              <p:cNvPicPr/>
              <p:nvPr/>
            </p:nvPicPr>
            <p:blipFill>
              <a:blip r:embed="rId4"/>
              <a:stretch/>
            </p:blipFill>
            <p:spPr>
              <a:xfrm>
                <a:off x="5951880" y="3778200"/>
                <a:ext cx="1314360" cy="91440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  <p:sp>
            <p:nvSpPr>
              <p:cNvPr id="336" name=""/>
              <p:cNvSpPr/>
              <p:nvPr/>
            </p:nvSpPr>
            <p:spPr>
              <a:xfrm>
                <a:off x="6167880" y="4680000"/>
                <a:ext cx="84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ermany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37" name=""/>
            <p:cNvGrpSpPr/>
            <p:nvPr/>
          </p:nvGrpSpPr>
          <p:grpSpPr>
            <a:xfrm>
              <a:off x="2403720" y="3778200"/>
              <a:ext cx="1305000" cy="1212120"/>
              <a:chOff x="2403720" y="3778200"/>
              <a:chExt cx="1305000" cy="1212120"/>
            </a:xfrm>
          </p:grpSpPr>
          <p:pic>
            <p:nvPicPr>
              <p:cNvPr id="338" name="" descr=""/>
              <p:cNvPicPr/>
              <p:nvPr/>
            </p:nvPicPr>
            <p:blipFill>
              <a:blip r:embed="rId5"/>
              <a:stretch/>
            </p:blipFill>
            <p:spPr>
              <a:xfrm>
                <a:off x="2403720" y="3778200"/>
                <a:ext cx="130500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39" name=""/>
              <p:cNvSpPr/>
              <p:nvPr/>
            </p:nvSpPr>
            <p:spPr>
              <a:xfrm>
                <a:off x="2495160" y="4683240"/>
                <a:ext cx="10465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Netherlands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40" name=""/>
            <p:cNvGrpSpPr/>
            <p:nvPr/>
          </p:nvGrpSpPr>
          <p:grpSpPr>
            <a:xfrm>
              <a:off x="7610760" y="3778200"/>
              <a:ext cx="1304640" cy="1210680"/>
              <a:chOff x="7610760" y="3778200"/>
              <a:chExt cx="1304640" cy="1210680"/>
            </a:xfrm>
          </p:grpSpPr>
          <p:pic>
            <p:nvPicPr>
              <p:cNvPr id="341" name="" descr=""/>
              <p:cNvPicPr/>
              <p:nvPr/>
            </p:nvPicPr>
            <p:blipFill>
              <a:blip r:embed="rId6"/>
              <a:stretch/>
            </p:blipFill>
            <p:spPr>
              <a:xfrm>
                <a:off x="7610760" y="3778200"/>
                <a:ext cx="1304640" cy="908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2" name=""/>
              <p:cNvSpPr/>
              <p:nvPr/>
            </p:nvSpPr>
            <p:spPr>
              <a:xfrm>
                <a:off x="7984080" y="4681800"/>
                <a:ext cx="6667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Franc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43" name=""/>
          <p:cNvGrpSpPr/>
          <p:nvPr/>
        </p:nvGrpSpPr>
        <p:grpSpPr>
          <a:xfrm>
            <a:off x="702720" y="1033560"/>
            <a:ext cx="7256880" cy="1731240"/>
            <a:chOff x="702720" y="1033560"/>
            <a:chExt cx="7256880" cy="1731240"/>
          </a:xfrm>
        </p:grpSpPr>
        <p:sp>
          <p:nvSpPr>
            <p:cNvPr id="344" name=""/>
            <p:cNvSpPr/>
            <p:nvPr/>
          </p:nvSpPr>
          <p:spPr>
            <a:xfrm>
              <a:off x="5217840" y="1033560"/>
              <a:ext cx="274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CF Contract with SDRF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902680" y="1033560"/>
              <a:ext cx="167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Negotiating P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46" name=""/>
            <p:cNvGrpSpPr/>
            <p:nvPr/>
          </p:nvGrpSpPr>
          <p:grpSpPr>
            <a:xfrm>
              <a:off x="3450960" y="1606680"/>
              <a:ext cx="1288800" cy="1157760"/>
              <a:chOff x="3450960" y="1606680"/>
              <a:chExt cx="1288800" cy="1157760"/>
            </a:xfrm>
          </p:grpSpPr>
          <p:sp>
            <p:nvSpPr>
              <p:cNvPr id="347" name=""/>
              <p:cNvSpPr/>
              <p:nvPr/>
            </p:nvSpPr>
            <p:spPr>
              <a:xfrm>
                <a:off x="3556080" y="2457360"/>
                <a:ext cx="11196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Great Britai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348" name="gb" descr="[Flag of the United Kingdom]">
                <a:hlinkClick r:id="rId7"/>
              </p:cNvPr>
              <p:cNvPicPr/>
              <p:nvPr/>
            </p:nvPicPr>
            <p:blipFill>
              <a:blip r:embed="rId8"/>
              <a:stretch/>
            </p:blipFill>
            <p:spPr>
              <a:xfrm>
                <a:off x="3450960" y="1606680"/>
                <a:ext cx="1288800" cy="847440"/>
              </a:xfrm>
              <a:prstGeom prst="rect">
                <a:avLst/>
              </a:prstGeom>
              <a:ln w="9360">
                <a:solidFill>
                  <a:srgbClr val="000000"/>
                </a:solidFill>
                <a:miter/>
              </a:ln>
            </p:spPr>
          </p:pic>
        </p:grpSp>
        <p:grpSp>
          <p:nvGrpSpPr>
            <p:cNvPr id="349" name=""/>
            <p:cNvGrpSpPr/>
            <p:nvPr/>
          </p:nvGrpSpPr>
          <p:grpSpPr>
            <a:xfrm>
              <a:off x="1191960" y="1548000"/>
              <a:ext cx="1305000" cy="1216440"/>
              <a:chOff x="1191960" y="1548000"/>
              <a:chExt cx="1305000" cy="1216440"/>
            </a:xfrm>
          </p:grpSpPr>
          <p:pic>
            <p:nvPicPr>
              <p:cNvPr id="350" name="" descr=""/>
              <p:cNvPicPr/>
              <p:nvPr/>
            </p:nvPicPr>
            <p:blipFill>
              <a:blip r:embed="rId9"/>
              <a:stretch/>
            </p:blipFill>
            <p:spPr>
              <a:xfrm>
                <a:off x="1191960" y="1548000"/>
                <a:ext cx="1305000" cy="907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1" name=""/>
              <p:cNvSpPr/>
              <p:nvPr/>
            </p:nvSpPr>
            <p:spPr>
              <a:xfrm>
                <a:off x="1541520" y="2457360"/>
                <a:ext cx="5893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Japan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2" name=""/>
            <p:cNvGrpSpPr/>
            <p:nvPr/>
          </p:nvGrpSpPr>
          <p:grpSpPr>
            <a:xfrm>
              <a:off x="6208560" y="1560600"/>
              <a:ext cx="1303200" cy="1204200"/>
              <a:chOff x="6208560" y="1560600"/>
              <a:chExt cx="1303200" cy="1204200"/>
            </a:xfrm>
          </p:grpSpPr>
          <p:pic>
            <p:nvPicPr>
              <p:cNvPr id="353" name="" descr=""/>
              <p:cNvPicPr/>
              <p:nvPr/>
            </p:nvPicPr>
            <p:blipFill>
              <a:blip r:embed="rId10"/>
              <a:stretch/>
            </p:blipFill>
            <p:spPr>
              <a:xfrm>
                <a:off x="6208560" y="1560600"/>
                <a:ext cx="1303200" cy="909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4" name=""/>
              <p:cNvSpPr/>
              <p:nvPr/>
            </p:nvSpPr>
            <p:spPr>
              <a:xfrm>
                <a:off x="6486840" y="2457720"/>
                <a:ext cx="71712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5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Canada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"/>
            <p:cNvSpPr/>
            <p:nvPr/>
          </p:nvSpPr>
          <p:spPr>
            <a:xfrm>
              <a:off x="702720" y="1033560"/>
              <a:ext cx="14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MOU Sign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690480" y="5029200"/>
            <a:ext cx="7764480" cy="1248480"/>
            <a:chOff x="690480" y="5029200"/>
            <a:chExt cx="7764480" cy="1248480"/>
          </a:xfrm>
        </p:grpSpPr>
        <p:grpSp>
          <p:nvGrpSpPr>
            <p:cNvPr id="357" name=""/>
            <p:cNvGrpSpPr/>
            <p:nvPr/>
          </p:nvGrpSpPr>
          <p:grpSpPr>
            <a:xfrm>
              <a:off x="690480" y="5029200"/>
              <a:ext cx="6613560" cy="1248480"/>
              <a:chOff x="690480" y="5029200"/>
              <a:chExt cx="6613560" cy="1248480"/>
            </a:xfrm>
          </p:grpSpPr>
          <p:grpSp>
            <p:nvGrpSpPr>
              <p:cNvPr id="358" name=""/>
              <p:cNvGrpSpPr/>
              <p:nvPr/>
            </p:nvGrpSpPr>
            <p:grpSpPr>
              <a:xfrm>
                <a:off x="690480" y="5029200"/>
                <a:ext cx="1303560" cy="1248480"/>
                <a:chOff x="690480" y="5029200"/>
                <a:chExt cx="1303560" cy="1248480"/>
              </a:xfrm>
            </p:grpSpPr>
            <p:pic>
              <p:nvPicPr>
                <p:cNvPr id="359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690480" y="5029200"/>
                  <a:ext cx="1303560" cy="9111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0" name=""/>
                <p:cNvSpPr/>
                <p:nvPr/>
              </p:nvSpPr>
              <p:spPr>
                <a:xfrm>
                  <a:off x="931680" y="5970600"/>
                  <a:ext cx="83772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Australi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"/>
              <p:cNvGrpSpPr/>
              <p:nvPr/>
            </p:nvGrpSpPr>
            <p:grpSpPr>
              <a:xfrm>
                <a:off x="5996160" y="5029200"/>
                <a:ext cx="1307880" cy="1178640"/>
                <a:chOff x="5996160" y="5029200"/>
                <a:chExt cx="1307880" cy="1178640"/>
              </a:xfrm>
            </p:grpSpPr>
            <p:pic>
              <p:nvPicPr>
                <p:cNvPr id="362" name="it" descr="">
                  <a:hlinkClick r:id="rId12"/>
                </p:cNvPr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5996160" y="5029200"/>
                  <a:ext cx="1307880" cy="87156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363" name=""/>
                <p:cNvSpPr/>
                <p:nvPr/>
              </p:nvSpPr>
              <p:spPr>
                <a:xfrm>
                  <a:off x="6295680" y="5900760"/>
                  <a:ext cx="5097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Italy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"/>
              <p:cNvGrpSpPr/>
              <p:nvPr/>
            </p:nvGrpSpPr>
            <p:grpSpPr>
              <a:xfrm>
                <a:off x="2448000" y="5029200"/>
                <a:ext cx="1305000" cy="1213560"/>
                <a:chOff x="2448000" y="5029200"/>
                <a:chExt cx="1305000" cy="1213560"/>
              </a:xfrm>
            </p:grpSpPr>
            <p:pic>
              <p:nvPicPr>
                <p:cNvPr id="36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2448000" y="5029200"/>
                  <a:ext cx="1305000" cy="9082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366" name=""/>
                <p:cNvSpPr/>
                <p:nvPr/>
              </p:nvSpPr>
              <p:spPr>
                <a:xfrm>
                  <a:off x="2646720" y="5935680"/>
                  <a:ext cx="907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ingapore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"/>
              <p:cNvGrpSpPr/>
              <p:nvPr/>
            </p:nvGrpSpPr>
            <p:grpSpPr>
              <a:xfrm>
                <a:off x="4184640" y="5029200"/>
                <a:ext cx="1312920" cy="1208520"/>
                <a:chOff x="4184640" y="5029200"/>
                <a:chExt cx="1312920" cy="1208520"/>
              </a:xfrm>
            </p:grpSpPr>
            <p:pic>
              <p:nvPicPr>
                <p:cNvPr id="368" name="kr" descr="[South Korean flag]">
                  <a:hlinkClick r:id="rId15"/>
                </p:cNvPr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4184640" y="5029200"/>
                  <a:ext cx="1312920" cy="876240"/>
                </a:xfrm>
                <a:prstGeom prst="rect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pic>
            <p:sp>
              <p:nvSpPr>
                <p:cNvPr id="369" name=""/>
                <p:cNvSpPr/>
                <p:nvPr/>
              </p:nvSpPr>
              <p:spPr>
                <a:xfrm>
                  <a:off x="4533480" y="5930640"/>
                  <a:ext cx="6166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5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Korea</a:t>
                  </a:r>
                  <a:endParaRPr b="0" lang="en-US" sz="1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70" name=""/>
            <p:cNvSpPr/>
            <p:nvPr/>
          </p:nvSpPr>
          <p:spPr>
            <a:xfrm>
              <a:off x="7078680" y="5373720"/>
              <a:ext cx="137628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…</a:t>
              </a:r>
              <a:r>
                <a:rPr b="1" lang="en-US" sz="4000" spc="-1" strike="noStrike">
                  <a:solidFill>
                    <a:srgbClr val="000000"/>
                  </a:solidFill>
                  <a:latin typeface="Times New Roman"/>
                </a:rPr>
                <a:t>.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BE9A-3461-4DEC-B20E-B313BF61350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80520" y="96840"/>
            <a:ext cx="793764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Briefing 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46120" y="1219320"/>
            <a:ext cx="8369280" cy="50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ackgrou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oint Tactical Radio System (JTR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ftware Communications Architecture (S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3300"/>
                </a:solidFill>
                <a:latin typeface="Arial"/>
                <a:ea typeface="Times New Roman"/>
              </a:rPr>
              <a:t>Software Radio DSIG Activ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A and Deployment &amp; Configuration Commona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SCA Platform Independent Model (in-progres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16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B2E88-2FBD-469B-B883-D6146FD62F8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07696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Radio DSIG Activ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46120" y="1218960"/>
            <a:ext cx="81662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4560" indent="-214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The primary focus of the Software Radio DSIG has been promotion of the Software Communications Architecture (</a:t>
            </a:r>
            <a:r>
              <a:rPr b="1" lang="en-US" sz="2000" spc="-1" strike="noStrike">
                <a:solidFill>
                  <a:srgbClr val="cc3300"/>
                </a:solidFill>
                <a:latin typeface="Arial"/>
                <a:ea typeface="Times New Roman"/>
              </a:rPr>
              <a:t>SCA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) for adoption by the OM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214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Key SCA fe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9320" indent="-214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, ApplicationFactory, DomainManager, etc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9320" indent="-214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Component profiles derived from CCM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214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igh degree of commonality with Deployment and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9320" indent="-214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submitted LOIs for Deployment and Configu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9320" indent="-214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Have drafted a Software Radio-specific RF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9320" indent="-214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Are developing a Platform Independent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59320" indent="0">
              <a:lnSpc>
                <a:spcPct val="90000"/>
              </a:lnSpc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214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Socializing SCA with Telecom, C4I, Space, Real Time &amp; oth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56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e are also defining light weight pro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-214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aming service, event service, log service, 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3712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14560" indent="-21456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We are also reviewing CORBA security for applicability to Military radios</a:t>
            </a:r>
            <a:br>
              <a:rPr sz="2000"/>
            </a:b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6939-FBF3-4E6E-928D-F1A3B6C8060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4:31:34Z</dcterms:created>
  <dc:creator>R1236</dc:creator>
  <dc:description/>
  <dc:language>en-US</dc:language>
  <cp:lastModifiedBy>Gerald Lee Bickle</cp:lastModifiedBy>
  <cp:lastPrinted>2001-07-31T13:21:01Z</cp:lastPrinted>
  <dcterms:modified xsi:type="dcterms:W3CDTF">2002-04-22T23:24:19Z</dcterms:modified>
  <cp:revision>165</cp:revision>
  <dc:subject/>
  <dc:title>JTRS Step 2A Post Award Kickoff</dc:title>
</cp:coreProperties>
</file>